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9897-E3A2-43A2-AA2C-09F538732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A598-6DE1-4B07-B7C0-4A6D93F5F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B97A-E8E7-468E-9BB6-A55B884F9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F3E4-F196-4B85-BED3-881A6F209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3358-3EF2-464B-B78D-B5410CF9B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B118-3B0A-490D-9AFF-75F164957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4BE3-F4DD-471C-8787-DD4DF7325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3481-178A-45A9-84B6-669A819CF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1E1E-70F8-4767-AEB3-304FA1FB0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5EC8-533D-4D37-9D73-C1E745BC4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E930-F956-4438-8DEC-8EE2B9B4C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6163-1548-43FE-80C1-5634CDEB1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880F0-F1EE-4EA2-8583-F5F3B46D9C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92360" y="1844640"/>
            <a:ext cx="5255640" cy="2735640"/>
            <a:chOff x="1692360" y="1844640"/>
            <a:chExt cx="5255640" cy="2735640"/>
          </a:xfrm>
        </p:grpSpPr>
        <p:grpSp>
          <p:nvGrpSpPr>
            <p:cNvPr id="42" name=""/>
            <p:cNvGrpSpPr/>
            <p:nvPr/>
          </p:nvGrpSpPr>
          <p:grpSpPr>
            <a:xfrm>
              <a:off x="1692360" y="1844640"/>
              <a:ext cx="5255640" cy="2678400"/>
              <a:chOff x="1692360" y="1844640"/>
              <a:chExt cx="5255640" cy="2678400"/>
            </a:xfrm>
          </p:grpSpPr>
          <p:grpSp>
            <p:nvGrpSpPr>
              <p:cNvPr id="43" name=""/>
              <p:cNvGrpSpPr/>
              <p:nvPr/>
            </p:nvGrpSpPr>
            <p:grpSpPr>
              <a:xfrm>
                <a:off x="4487040" y="2325240"/>
                <a:ext cx="814320" cy="2197440"/>
                <a:chOff x="4487040" y="2325240"/>
                <a:chExt cx="814320" cy="2197440"/>
              </a:xfrm>
            </p:grpSpPr>
            <p:sp>
              <p:nvSpPr>
                <p:cNvPr id="44" name=""/>
                <p:cNvSpPr/>
                <p:nvPr/>
              </p:nvSpPr>
              <p:spPr>
                <a:xfrm flipH="1">
                  <a:off x="4487040" y="2394000"/>
                  <a:ext cx="725760" cy="2128680"/>
                </a:xfrm>
                <a:custGeom>
                  <a:avLst/>
                  <a:gdLst/>
                  <a:ahLst/>
                  <a:rect l="l" t="t" r="r" b="b"/>
                  <a:pathLst>
                    <a:path w="344" h="1920">
                      <a:moveTo>
                        <a:pt x="0" y="0"/>
                      </a:moveTo>
                      <a:cubicBezTo>
                        <a:pt x="116" y="488"/>
                        <a:pt x="232" y="976"/>
                        <a:pt x="288" y="1296"/>
                      </a:cubicBezTo>
                      <a:cubicBezTo>
                        <a:pt x="344" y="1616"/>
                        <a:pt x="328" y="1816"/>
                        <a:pt x="336" y="192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flipH="1">
                  <a:off x="5123520" y="2325240"/>
                  <a:ext cx="177480" cy="20592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" name=""/>
              <p:cNvSpPr/>
              <p:nvPr/>
            </p:nvSpPr>
            <p:spPr>
              <a:xfrm>
                <a:off x="3348720" y="2394000"/>
                <a:ext cx="1085040" cy="2128680"/>
              </a:xfrm>
              <a:custGeom>
                <a:avLst/>
                <a:gdLst/>
                <a:ahLst/>
                <a:rect l="l" t="t" r="r" b="b"/>
                <a:pathLst>
                  <a:path w="344" h="1920">
                    <a:moveTo>
                      <a:pt x="0" y="0"/>
                    </a:moveTo>
                    <a:cubicBezTo>
                      <a:pt x="116" y="488"/>
                      <a:pt x="232" y="976"/>
                      <a:pt x="288" y="1296"/>
                    </a:cubicBezTo>
                    <a:cubicBezTo>
                      <a:pt x="344" y="1616"/>
                      <a:pt x="328" y="1816"/>
                      <a:pt x="336" y="192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3343680" y="2325240"/>
                <a:ext cx="138600" cy="20592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" name=""/>
              <p:cNvGrpSpPr/>
              <p:nvPr/>
            </p:nvGrpSpPr>
            <p:grpSpPr>
              <a:xfrm>
                <a:off x="4487760" y="2531520"/>
                <a:ext cx="951840" cy="1991520"/>
                <a:chOff x="4487760" y="2531520"/>
                <a:chExt cx="951840" cy="1991520"/>
              </a:xfrm>
            </p:grpSpPr>
            <p:sp>
              <p:nvSpPr>
                <p:cNvPr id="49" name=""/>
                <p:cNvSpPr/>
                <p:nvPr/>
              </p:nvSpPr>
              <p:spPr>
                <a:xfrm flipH="1">
                  <a:off x="4487400" y="2593800"/>
                  <a:ext cx="848520" cy="1929240"/>
                </a:xfrm>
                <a:custGeom>
                  <a:avLst/>
                  <a:gdLst/>
                  <a:ahLst/>
                  <a:rect l="l" t="t" r="r" b="b"/>
                  <a:pathLst>
                    <a:path w="344" h="1920">
                      <a:moveTo>
                        <a:pt x="0" y="0"/>
                      </a:moveTo>
                      <a:cubicBezTo>
                        <a:pt x="116" y="488"/>
                        <a:pt x="232" y="976"/>
                        <a:pt x="288" y="1296"/>
                      </a:cubicBezTo>
                      <a:cubicBezTo>
                        <a:pt x="344" y="1616"/>
                        <a:pt x="328" y="1816"/>
                        <a:pt x="336" y="192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 flipH="1">
                  <a:off x="5232240" y="2531520"/>
                  <a:ext cx="207360" cy="18648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" name=""/>
              <p:cNvGrpSpPr/>
              <p:nvPr/>
            </p:nvGrpSpPr>
            <p:grpSpPr>
              <a:xfrm>
                <a:off x="3851640" y="2119320"/>
                <a:ext cx="581760" cy="2197440"/>
                <a:chOff x="3851640" y="2119320"/>
                <a:chExt cx="581760" cy="219744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3914640" y="2188080"/>
                  <a:ext cx="518760" cy="2128680"/>
                </a:xfrm>
                <a:custGeom>
                  <a:avLst/>
                  <a:gdLst/>
                  <a:ahLst/>
                  <a:rect l="l" t="t" r="r" b="b"/>
                  <a:pathLst>
                    <a:path w="344" h="1920">
                      <a:moveTo>
                        <a:pt x="0" y="0"/>
                      </a:moveTo>
                      <a:cubicBezTo>
                        <a:pt x="116" y="488"/>
                        <a:pt x="232" y="976"/>
                        <a:pt x="288" y="1296"/>
                      </a:cubicBezTo>
                      <a:cubicBezTo>
                        <a:pt x="344" y="1616"/>
                        <a:pt x="328" y="1816"/>
                        <a:pt x="336" y="192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3851640" y="2119320"/>
                  <a:ext cx="126720" cy="20592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3597480" y="2325240"/>
                <a:ext cx="1090080" cy="2197440"/>
                <a:chOff x="3597480" y="2325240"/>
                <a:chExt cx="1090080" cy="219744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3715920" y="2394000"/>
                  <a:ext cx="971640" cy="2128680"/>
                </a:xfrm>
                <a:custGeom>
                  <a:avLst/>
                  <a:gdLst/>
                  <a:ahLst/>
                  <a:rect l="l" t="t" r="r" b="b"/>
                  <a:pathLst>
                    <a:path w="344" h="1920">
                      <a:moveTo>
                        <a:pt x="0" y="0"/>
                      </a:moveTo>
                      <a:cubicBezTo>
                        <a:pt x="116" y="488"/>
                        <a:pt x="232" y="976"/>
                        <a:pt x="288" y="1296"/>
                      </a:cubicBezTo>
                      <a:cubicBezTo>
                        <a:pt x="344" y="1616"/>
                        <a:pt x="328" y="1816"/>
                        <a:pt x="336" y="192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3597480" y="2325240"/>
                  <a:ext cx="237600" cy="20592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4402080" y="2062080"/>
                <a:ext cx="349560" cy="2460600"/>
              </a:xfrm>
              <a:custGeom>
                <a:avLst/>
                <a:gdLst/>
                <a:ahLst/>
                <a:rect l="l" t="t" r="r" b="b"/>
                <a:pathLst>
                  <a:path w="344" h="1920">
                    <a:moveTo>
                      <a:pt x="0" y="0"/>
                    </a:moveTo>
                    <a:cubicBezTo>
                      <a:pt x="116" y="488"/>
                      <a:pt x="232" y="976"/>
                      <a:pt x="288" y="1296"/>
                    </a:cubicBezTo>
                    <a:cubicBezTo>
                      <a:pt x="344" y="1616"/>
                      <a:pt x="328" y="1816"/>
                      <a:pt x="336" y="192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359960" y="1982160"/>
                <a:ext cx="86040" cy="16992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218120" y="2195280"/>
                <a:ext cx="395640" cy="2327400"/>
              </a:xfrm>
              <a:custGeom>
                <a:avLst/>
                <a:gdLst/>
                <a:ahLst/>
                <a:rect l="l" t="t" r="r" b="b"/>
                <a:pathLst>
                  <a:path w="344" h="1920">
                    <a:moveTo>
                      <a:pt x="0" y="0"/>
                    </a:moveTo>
                    <a:cubicBezTo>
                      <a:pt x="116" y="488"/>
                      <a:pt x="232" y="976"/>
                      <a:pt x="288" y="1296"/>
                    </a:cubicBezTo>
                    <a:cubicBezTo>
                      <a:pt x="344" y="1616"/>
                      <a:pt x="328" y="1816"/>
                      <a:pt x="336" y="192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4169160" y="2119320"/>
                <a:ext cx="96480" cy="13716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" name=""/>
              <p:cNvGrpSpPr/>
              <p:nvPr/>
            </p:nvGrpSpPr>
            <p:grpSpPr>
              <a:xfrm>
                <a:off x="4042440" y="2325240"/>
                <a:ext cx="581760" cy="2197440"/>
                <a:chOff x="4042440" y="2325240"/>
                <a:chExt cx="581760" cy="219744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4105440" y="2394000"/>
                  <a:ext cx="518760" cy="2128680"/>
                </a:xfrm>
                <a:custGeom>
                  <a:avLst/>
                  <a:gdLst/>
                  <a:ahLst/>
                  <a:rect l="l" t="t" r="r" b="b"/>
                  <a:pathLst>
                    <a:path w="344" h="1920">
                      <a:moveTo>
                        <a:pt x="0" y="0"/>
                      </a:moveTo>
                      <a:cubicBezTo>
                        <a:pt x="116" y="488"/>
                        <a:pt x="232" y="976"/>
                        <a:pt x="288" y="1296"/>
                      </a:cubicBezTo>
                      <a:cubicBezTo>
                        <a:pt x="344" y="1616"/>
                        <a:pt x="328" y="1816"/>
                        <a:pt x="336" y="192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4042440" y="2325240"/>
                  <a:ext cx="126720" cy="20592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" name=""/>
              <p:cNvGrpSpPr/>
              <p:nvPr/>
            </p:nvGrpSpPr>
            <p:grpSpPr>
              <a:xfrm>
                <a:off x="4423680" y="2050560"/>
                <a:ext cx="454680" cy="2471760"/>
                <a:chOff x="4423680" y="2050560"/>
                <a:chExt cx="454680" cy="2471760"/>
              </a:xfrm>
            </p:grpSpPr>
            <p:sp>
              <p:nvSpPr>
                <p:cNvPr id="65" name=""/>
                <p:cNvSpPr/>
                <p:nvPr/>
              </p:nvSpPr>
              <p:spPr>
                <a:xfrm flipH="1">
                  <a:off x="4423680" y="2127600"/>
                  <a:ext cx="405360" cy="2394720"/>
                </a:xfrm>
                <a:custGeom>
                  <a:avLst/>
                  <a:gdLst/>
                  <a:ahLst/>
                  <a:rect l="l" t="t" r="r" b="b"/>
                  <a:pathLst>
                    <a:path w="344" h="1920">
                      <a:moveTo>
                        <a:pt x="0" y="0"/>
                      </a:moveTo>
                      <a:cubicBezTo>
                        <a:pt x="116" y="488"/>
                        <a:pt x="232" y="976"/>
                        <a:pt x="288" y="1296"/>
                      </a:cubicBezTo>
                      <a:cubicBezTo>
                        <a:pt x="344" y="1616"/>
                        <a:pt x="328" y="1816"/>
                        <a:pt x="336" y="192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 flipH="1">
                  <a:off x="4779000" y="2050560"/>
                  <a:ext cx="99000" cy="23148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" name=""/>
              <p:cNvGrpSpPr/>
              <p:nvPr/>
            </p:nvGrpSpPr>
            <p:grpSpPr>
              <a:xfrm>
                <a:off x="4487040" y="2325240"/>
                <a:ext cx="581760" cy="2197440"/>
                <a:chOff x="4487040" y="2325240"/>
                <a:chExt cx="581760" cy="2197440"/>
              </a:xfrm>
            </p:grpSpPr>
            <p:sp>
              <p:nvSpPr>
                <p:cNvPr id="68" name=""/>
                <p:cNvSpPr/>
                <p:nvPr/>
              </p:nvSpPr>
              <p:spPr>
                <a:xfrm flipH="1">
                  <a:off x="4486680" y="2394000"/>
                  <a:ext cx="518760" cy="2128680"/>
                </a:xfrm>
                <a:custGeom>
                  <a:avLst/>
                  <a:gdLst/>
                  <a:ahLst/>
                  <a:rect l="l" t="t" r="r" b="b"/>
                  <a:pathLst>
                    <a:path w="344" h="1920">
                      <a:moveTo>
                        <a:pt x="0" y="0"/>
                      </a:moveTo>
                      <a:cubicBezTo>
                        <a:pt x="116" y="488"/>
                        <a:pt x="232" y="976"/>
                        <a:pt x="288" y="1296"/>
                      </a:cubicBezTo>
                      <a:cubicBezTo>
                        <a:pt x="344" y="1616"/>
                        <a:pt x="328" y="1816"/>
                        <a:pt x="336" y="192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 flipH="1">
                  <a:off x="4942080" y="2325240"/>
                  <a:ext cx="126720" cy="20592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" name=""/>
              <p:cNvSpPr/>
              <p:nvPr/>
            </p:nvSpPr>
            <p:spPr>
              <a:xfrm flipH="1">
                <a:off x="4232160" y="2050560"/>
                <a:ext cx="1079640" cy="2472120"/>
              </a:xfrm>
              <a:custGeom>
                <a:avLst/>
                <a:gdLst/>
                <a:ahLst/>
                <a:rect l="l" t="t" r="r" b="b"/>
                <a:pathLst>
                  <a:path w="344" h="1920">
                    <a:moveTo>
                      <a:pt x="0" y="0"/>
                    </a:moveTo>
                    <a:cubicBezTo>
                      <a:pt x="116" y="488"/>
                      <a:pt x="232" y="976"/>
                      <a:pt x="288" y="1296"/>
                    </a:cubicBezTo>
                    <a:cubicBezTo>
                      <a:pt x="344" y="1616"/>
                      <a:pt x="328" y="1816"/>
                      <a:pt x="336" y="192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249160" y="1844640"/>
                <a:ext cx="138600" cy="20592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>
                <a:off x="4614120" y="2594160"/>
                <a:ext cx="848160" cy="1928520"/>
              </a:xfrm>
              <a:custGeom>
                <a:avLst/>
                <a:gdLst/>
                <a:ahLst/>
                <a:rect l="l" t="t" r="r" b="b"/>
                <a:pathLst>
                  <a:path w="344" h="1920">
                    <a:moveTo>
                      <a:pt x="0" y="0"/>
                    </a:moveTo>
                    <a:cubicBezTo>
                      <a:pt x="116" y="488"/>
                      <a:pt x="232" y="976"/>
                      <a:pt x="288" y="1296"/>
                    </a:cubicBezTo>
                    <a:cubicBezTo>
                      <a:pt x="344" y="1616"/>
                      <a:pt x="328" y="1816"/>
                      <a:pt x="336" y="192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>
                <a:off x="5358960" y="2531520"/>
                <a:ext cx="144000" cy="2746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4" name=""/>
              <p:cNvGrpSpPr/>
              <p:nvPr/>
            </p:nvGrpSpPr>
            <p:grpSpPr>
              <a:xfrm>
                <a:off x="4296960" y="2050560"/>
                <a:ext cx="454680" cy="2471760"/>
                <a:chOff x="4296960" y="2050560"/>
                <a:chExt cx="454680" cy="2471760"/>
              </a:xfrm>
            </p:grpSpPr>
            <p:sp>
              <p:nvSpPr>
                <p:cNvPr id="75" name=""/>
                <p:cNvSpPr/>
                <p:nvPr/>
              </p:nvSpPr>
              <p:spPr>
                <a:xfrm flipH="1">
                  <a:off x="4296960" y="2127600"/>
                  <a:ext cx="405360" cy="2394720"/>
                </a:xfrm>
                <a:custGeom>
                  <a:avLst/>
                  <a:gdLst/>
                  <a:ahLst/>
                  <a:rect l="l" t="t" r="r" b="b"/>
                  <a:pathLst>
                    <a:path w="344" h="1920">
                      <a:moveTo>
                        <a:pt x="0" y="0"/>
                      </a:moveTo>
                      <a:cubicBezTo>
                        <a:pt x="116" y="488"/>
                        <a:pt x="232" y="976"/>
                        <a:pt x="288" y="1296"/>
                      </a:cubicBezTo>
                      <a:cubicBezTo>
                        <a:pt x="344" y="1616"/>
                        <a:pt x="328" y="1816"/>
                        <a:pt x="336" y="192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 flipH="1">
                  <a:off x="4652280" y="2050560"/>
                  <a:ext cx="99000" cy="23148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" name=""/>
              <p:cNvSpPr/>
              <p:nvPr/>
            </p:nvSpPr>
            <p:spPr>
              <a:xfrm>
                <a:off x="3216600" y="2394000"/>
                <a:ext cx="1132560" cy="2117160"/>
              </a:xfrm>
              <a:custGeom>
                <a:avLst/>
                <a:gdLst/>
                <a:ahLst/>
                <a:rect l="l" t="t" r="r" b="b"/>
                <a:pathLst>
                  <a:path w="856" h="1480">
                    <a:moveTo>
                      <a:pt x="832" y="1480"/>
                    </a:moveTo>
                    <a:cubicBezTo>
                      <a:pt x="844" y="1444"/>
                      <a:pt x="856" y="1408"/>
                      <a:pt x="736" y="1192"/>
                    </a:cubicBezTo>
                    <a:cubicBezTo>
                      <a:pt x="616" y="976"/>
                      <a:pt x="224" y="368"/>
                      <a:pt x="112" y="184"/>
                    </a:cubicBezTo>
                    <a:cubicBezTo>
                      <a:pt x="0" y="0"/>
                      <a:pt x="32" y="44"/>
                      <a:pt x="64" y="8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153240" y="2462400"/>
                <a:ext cx="201960" cy="13752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026160" y="3630240"/>
                <a:ext cx="2794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026160" y="4523040"/>
                <a:ext cx="2794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 txBox="1"/>
              <p:nvPr/>
            </p:nvSpPr>
            <p:spPr>
              <a:xfrm>
                <a:off x="5757120" y="3698640"/>
                <a:ext cx="198000" cy="77256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Narrow"/>
                  </a:rPr>
                  <a:t>}</a:t>
                </a:r>
                <a:endParaRPr b="0" lang="en-US" sz="4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Narrow"/>
                  <a:ea typeface="Arial Narrow"/>
                </a:endParaRPr>
              </a:p>
            </p:txBody>
          </p:sp>
          <p:sp>
            <p:nvSpPr>
              <p:cNvPr id="82" name=""/>
              <p:cNvSpPr txBox="1"/>
              <p:nvPr/>
            </p:nvSpPr>
            <p:spPr>
              <a:xfrm>
                <a:off x="5693760" y="2050560"/>
                <a:ext cx="261720" cy="145908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 Narrow"/>
                  </a:rPr>
                  <a:t>}</a:t>
                </a:r>
                <a:endParaRPr b="0" lang="en-US" sz="4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Narrow"/>
                  <a:ea typeface="Arial Narrow"/>
                </a:endParaRPr>
              </a:p>
            </p:txBody>
          </p:sp>
          <p:sp>
            <p:nvSpPr>
              <p:cNvPr id="83" name=""/>
              <p:cNvSpPr txBox="1"/>
              <p:nvPr/>
            </p:nvSpPr>
            <p:spPr>
              <a:xfrm>
                <a:off x="6074640" y="3973680"/>
                <a:ext cx="857520" cy="30888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Script"/>
                  </a:rPr>
                  <a:t>Physiological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Script"/>
                  <a:ea typeface="Script"/>
                </a:endParaRPr>
              </a:p>
            </p:txBody>
          </p:sp>
          <p:sp>
            <p:nvSpPr>
              <p:cNvPr id="84" name=""/>
              <p:cNvSpPr txBox="1"/>
              <p:nvPr/>
            </p:nvSpPr>
            <p:spPr>
              <a:xfrm>
                <a:off x="6074640" y="2668680"/>
                <a:ext cx="873360" cy="30888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Script"/>
                  </a:rPr>
                  <a:t>Psychological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Script"/>
                  <a:ea typeface="Script"/>
                </a:endParaRPr>
              </a:p>
            </p:txBody>
          </p:sp>
          <p:sp>
            <p:nvSpPr>
              <p:cNvPr id="85" name=""/>
              <p:cNvSpPr txBox="1"/>
              <p:nvPr/>
            </p:nvSpPr>
            <p:spPr>
              <a:xfrm>
                <a:off x="1692360" y="2806200"/>
                <a:ext cx="1683360" cy="58356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Impact"/>
                  </a:rPr>
                  <a:t>Identity/difference</a:t>
                </a:r>
                <a:endPara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Impact"/>
                  <a:ea typeface="Impact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Impact"/>
                  </a:rPr>
                  <a:t>Motivators</a:t>
                </a:r>
                <a:endPara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Impact"/>
                  <a:ea typeface="Impact"/>
                </a:endParaRPr>
              </a:p>
            </p:txBody>
          </p:sp>
          <p:sp>
            <p:nvSpPr>
              <p:cNvPr id="86" name=""/>
              <p:cNvSpPr txBox="1"/>
              <p:nvPr/>
            </p:nvSpPr>
            <p:spPr>
              <a:xfrm>
                <a:off x="2136960" y="3767400"/>
                <a:ext cx="714240" cy="58356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Impact"/>
                  </a:rPr>
                  <a:t>Hygiene</a:t>
                </a:r>
                <a:endPara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Impact"/>
                  <a:ea typeface="Impact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Impact"/>
                  </a:rPr>
                  <a:t>Factors</a:t>
                </a:r>
                <a:endPara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Impact"/>
                  <a:ea typeface="Impact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2976840" y="2368800"/>
              <a:ext cx="3035520" cy="2211480"/>
              <a:chOff x="2976840" y="2368800"/>
              <a:chExt cx="3035520" cy="2211480"/>
            </a:xfrm>
          </p:grpSpPr>
          <p:grpSp>
            <p:nvGrpSpPr>
              <p:cNvPr id="88" name=""/>
              <p:cNvGrpSpPr/>
              <p:nvPr/>
            </p:nvGrpSpPr>
            <p:grpSpPr>
              <a:xfrm>
                <a:off x="2976840" y="2368800"/>
                <a:ext cx="3035520" cy="2211480"/>
                <a:chOff x="2976840" y="2368800"/>
                <a:chExt cx="3035520" cy="2211480"/>
              </a:xfrm>
            </p:grpSpPr>
            <p:sp>
              <p:nvSpPr>
                <p:cNvPr id="89" name=""/>
                <p:cNvSpPr/>
                <p:nvPr/>
              </p:nvSpPr>
              <p:spPr>
                <a:xfrm flipH="1">
                  <a:off x="2976840" y="2368800"/>
                  <a:ext cx="1517400" cy="221148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4494600" y="2368800"/>
                  <a:ext cx="1517400" cy="221148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2977200" y="4580280"/>
                  <a:ext cx="3035160" cy="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" name=""/>
              <p:cNvSpPr/>
              <p:nvPr/>
            </p:nvSpPr>
            <p:spPr>
              <a:xfrm>
                <a:off x="3283200" y="4120200"/>
                <a:ext cx="2424600" cy="9000"/>
              </a:xfrm>
              <a:custGeom>
                <a:avLst/>
                <a:gdLst/>
                <a:ahLst/>
                <a:rect l="l" t="t" r="r" b="b"/>
                <a:pathLst>
                  <a:path w="690" h="3">
                    <a:moveTo>
                      <a:pt x="0" y="3"/>
                    </a:moveTo>
                    <a:lnTo>
                      <a:pt x="690" y="0"/>
                    </a:lnTo>
                  </a:path>
                </a:pathLst>
              </a:custGeom>
              <a:noFill/>
              <a:ln cap="rnd" w="936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720" bIns="-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578040" y="3677760"/>
                <a:ext cx="1823760" cy="9000"/>
              </a:xfrm>
              <a:custGeom>
                <a:avLst/>
                <a:gdLst/>
                <a:ahLst/>
                <a:rect l="l" t="t" r="r" b="b"/>
                <a:pathLst>
                  <a:path w="519" h="3">
                    <a:moveTo>
                      <a:pt x="0" y="0"/>
                    </a:moveTo>
                    <a:lnTo>
                      <a:pt x="519" y="3"/>
                    </a:lnTo>
                  </a:path>
                </a:pathLst>
              </a:custGeom>
              <a:noFill/>
              <a:ln cap="rnd" w="936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720" bIns="-36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884040" y="3253680"/>
                <a:ext cx="1211760" cy="2520"/>
              </a:xfrm>
              <a:custGeom>
                <a:avLst/>
                <a:gdLst/>
                <a:ahLst/>
                <a:rect l="l" t="t" r="r" b="b"/>
                <a:pathLst>
                  <a:path w="345" h="1">
                    <a:moveTo>
                      <a:pt x="0" y="0"/>
                    </a:moveTo>
                    <a:lnTo>
                      <a:pt x="345" y="0"/>
                    </a:lnTo>
                  </a:path>
                </a:pathLst>
              </a:custGeom>
              <a:noFill/>
              <a:ln cap="rnd" w="936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3200" bIns="-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190040" y="2811240"/>
                <a:ext cx="610920" cy="2520"/>
              </a:xfrm>
              <a:custGeom>
                <a:avLst/>
                <a:gdLst/>
                <a:ahLst/>
                <a:rect l="l" t="t" r="r" b="b"/>
                <a:pathLst>
                  <a:path w="174" h="1">
                    <a:moveTo>
                      <a:pt x="0" y="0"/>
                    </a:moveTo>
                    <a:lnTo>
                      <a:pt x="174" y="1"/>
                    </a:lnTo>
                  </a:path>
                </a:pathLst>
              </a:custGeom>
              <a:noFill/>
              <a:ln cap="rnd" w="936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3200" bIns="-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6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5455440"/>
            <a:ext cx="741672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troduction to Part II Extra Figur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A posmodern reworking of Maslow’s Hierarchy: A “reeds” or differentiating framework of motiv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812000" y="5084640"/>
            <a:ext cx="101916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95280" y="5226120"/>
            <a:ext cx="7416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6.2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orter’s ‘Generic value chain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reprinted with the permission of The Free Press, A Division of Simon &amp; Shuster, Inc., from COMPETITIVE ADVANTAGE: Creating and Sustaining Superior Performance by Michael E. Porter. Copyright © 1985, 1998 by Michael E. Por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7812000" y="5084640"/>
            <a:ext cx="1019160" cy="147636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1979640" y="1989000"/>
            <a:ext cx="4033800" cy="2268720"/>
          </a:xfrm>
          <a:custGeom>
            <a:avLst/>
            <a:gdLst/>
            <a:ahLst/>
            <a:rect l="l" t="t" r="r" b="b"/>
            <a:pathLst>
              <a:path w="1344" h="432">
                <a:moveTo>
                  <a:pt x="1344" y="0"/>
                </a:moveTo>
                <a:lnTo>
                  <a:pt x="0" y="0"/>
                </a:lnTo>
                <a:lnTo>
                  <a:pt x="0" y="432"/>
                </a:lnTo>
                <a:lnTo>
                  <a:pt x="1344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008760" y="1992240"/>
            <a:ext cx="625320" cy="2252880"/>
          </a:xfrm>
          <a:custGeom>
            <a:avLst/>
            <a:gdLst/>
            <a:ahLst/>
            <a:rect l="l" t="t" r="r" b="b"/>
            <a:pathLst>
              <a:path w="379" h="1314">
                <a:moveTo>
                  <a:pt x="0" y="0"/>
                </a:moveTo>
                <a:lnTo>
                  <a:pt x="379" y="692"/>
                </a:lnTo>
                <a:lnTo>
                  <a:pt x="0" y="131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545000" y="3173400"/>
            <a:ext cx="0" cy="10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398920" y="3173400"/>
            <a:ext cx="0" cy="10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833560" y="3173400"/>
            <a:ext cx="855720" cy="108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979640" y="3173400"/>
            <a:ext cx="465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780160" y="1989000"/>
            <a:ext cx="568080" cy="118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5780160" y="3173400"/>
            <a:ext cx="568080" cy="10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833560" y="2284560"/>
            <a:ext cx="0" cy="9856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979640" y="2581200"/>
            <a:ext cx="408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979640" y="2876400"/>
            <a:ext cx="4227480" cy="1800"/>
          </a:xfrm>
          <a:custGeom>
            <a:avLst/>
            <a:gdLst/>
            <a:ahLst/>
            <a:rect l="l" t="t" r="r" b="b"/>
            <a:pathLst>
              <a:path w="2563" h="1">
                <a:moveTo>
                  <a:pt x="0" y="0"/>
                </a:moveTo>
                <a:lnTo>
                  <a:pt x="2563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689280" y="1989000"/>
            <a:ext cx="0" cy="12812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398920" y="2284560"/>
            <a:ext cx="0" cy="9856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545000" y="1989000"/>
            <a:ext cx="0" cy="1184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011320" y="3535200"/>
            <a:ext cx="797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NBOU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LOGISTIC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801880" y="3616200"/>
            <a:ext cx="9302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PERA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673440" y="3535200"/>
            <a:ext cx="857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UTBOU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LOGISTIC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545000" y="3535200"/>
            <a:ext cx="903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ARK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amp; SAL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335560" y="3616200"/>
            <a:ext cx="6872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292720" y="4005360"/>
            <a:ext cx="89856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ARG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990800" y="2300400"/>
            <a:ext cx="3940200" cy="3240"/>
          </a:xfrm>
          <a:custGeom>
            <a:avLst/>
            <a:gdLst/>
            <a:ahLst/>
            <a:rect l="l" t="t" r="r" b="b"/>
            <a:pathLst>
              <a:path w="2388" h="1">
                <a:moveTo>
                  <a:pt x="0" y="0"/>
                </a:moveTo>
                <a:lnTo>
                  <a:pt x="238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594240" y="2876400"/>
            <a:ext cx="1076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ROCURE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98960" y="2630520"/>
            <a:ext cx="19094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ECHNOLOGY DEVELOP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040200" y="2382840"/>
            <a:ext cx="21780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HUMAN RESOURCE MANAGE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379680" y="2054160"/>
            <a:ext cx="1560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FIRM INFRASTRUCTU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5875200" y="4060440"/>
            <a:ext cx="93960" cy="297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95280" y="5226120"/>
            <a:ext cx="7416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6.3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orter’s ‘Five forces of industry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reprinted with the permission of The Free Press, A Division of Simon &amp; Shuster, Inc., from COMPETITIVE STRATEGY: Techniques for Analyzing Industries and Competitors by Michael E. Porter. Copyright © 1980, 1998 by The Free Pr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7812000" y="5084640"/>
            <a:ext cx="1019160" cy="1476360"/>
          </a:xfrm>
          <a:prstGeom prst="rect">
            <a:avLst/>
          </a:prstGeom>
          <a:ln w="0">
            <a:noFill/>
          </a:ln>
        </p:spPr>
      </p:pic>
      <p:grpSp>
        <p:nvGrpSpPr>
          <p:cNvPr id="325" name=""/>
          <p:cNvGrpSpPr/>
          <p:nvPr/>
        </p:nvGrpSpPr>
        <p:grpSpPr>
          <a:xfrm>
            <a:off x="2195640" y="1700280"/>
            <a:ext cx="4873320" cy="2727360"/>
            <a:chOff x="2195640" y="1700280"/>
            <a:chExt cx="4873320" cy="2727360"/>
          </a:xfrm>
        </p:grpSpPr>
        <p:sp>
          <p:nvSpPr>
            <p:cNvPr id="326" name=""/>
            <p:cNvSpPr/>
            <p:nvPr/>
          </p:nvSpPr>
          <p:spPr>
            <a:xfrm>
              <a:off x="3948120" y="2462040"/>
              <a:ext cx="1371240" cy="121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633560" y="2462040"/>
              <a:ext cx="0" cy="12189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948120" y="3071880"/>
              <a:ext cx="13712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490920" y="3071880"/>
              <a:ext cx="45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319720" y="3071880"/>
              <a:ext cx="45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633560" y="20048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4633560" y="368136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700600" y="2919600"/>
              <a:ext cx="1368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2. BARGINING POW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OF BUYERS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195640" y="2919600"/>
              <a:ext cx="1368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. BARGINING POW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OF SUPPPLIER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100400" y="1700280"/>
              <a:ext cx="10699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3. THREAT OF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NEW ENTRANT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795840" y="4062600"/>
              <a:ext cx="16380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4. THREAT OF SUBSTITUT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PRODUCTS OR SERVIC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919320" y="2798640"/>
              <a:ext cx="1400040" cy="50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5. RIVARLY AMONGS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EXISTING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OMPETITOR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95280" y="5226120"/>
            <a:ext cx="7416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6.4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orter’s ‘Generic strategy matrix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reprinted with the permission of The Free Press, A Division of Simon &amp; Shuster, Inc., from COMPETITIVE STRATEGY: Techniques for Analyzing Industries and Competitors by Michael E. Porter. Copyright © 1980, 1998 by The Free Pr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7812000" y="5084640"/>
            <a:ext cx="1019160" cy="1476360"/>
          </a:xfrm>
          <a:prstGeom prst="rect">
            <a:avLst/>
          </a:prstGeom>
          <a:ln w="0">
            <a:noFill/>
          </a:ln>
        </p:spPr>
      </p:pic>
      <p:grpSp>
        <p:nvGrpSpPr>
          <p:cNvPr id="341" name=""/>
          <p:cNvGrpSpPr/>
          <p:nvPr/>
        </p:nvGrpSpPr>
        <p:grpSpPr>
          <a:xfrm>
            <a:off x="2050920" y="1557360"/>
            <a:ext cx="3992400" cy="2895120"/>
            <a:chOff x="2050920" y="1557360"/>
            <a:chExt cx="3992400" cy="2895120"/>
          </a:xfrm>
        </p:grpSpPr>
        <p:grpSp>
          <p:nvGrpSpPr>
            <p:cNvPr id="342" name=""/>
            <p:cNvGrpSpPr/>
            <p:nvPr/>
          </p:nvGrpSpPr>
          <p:grpSpPr>
            <a:xfrm>
              <a:off x="3422520" y="2151360"/>
              <a:ext cx="2620800" cy="2301120"/>
              <a:chOff x="3422520" y="2151360"/>
              <a:chExt cx="2620800" cy="2301120"/>
            </a:xfrm>
          </p:grpSpPr>
          <p:sp>
            <p:nvSpPr>
              <p:cNvPr id="343" name=""/>
              <p:cNvSpPr/>
              <p:nvPr/>
            </p:nvSpPr>
            <p:spPr>
              <a:xfrm>
                <a:off x="3422520" y="2151360"/>
                <a:ext cx="2620800" cy="2301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731120" y="2151360"/>
                <a:ext cx="0" cy="230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422520" y="3301920"/>
                <a:ext cx="262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6" name=""/>
            <p:cNvSpPr/>
            <p:nvPr/>
          </p:nvSpPr>
          <p:spPr>
            <a:xfrm>
              <a:off x="3879720" y="1557360"/>
              <a:ext cx="17748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COMPETITIVE ADVANTAG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574800" y="1922760"/>
              <a:ext cx="9111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LOWER COS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794120" y="1922760"/>
              <a:ext cx="11937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DIFFERENTIAT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50920" y="3141720"/>
              <a:ext cx="10094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COMPETITIV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SCOP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812680" y="2532240"/>
              <a:ext cx="63468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BROA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TARGE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691000" y="3751560"/>
              <a:ext cx="80640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NARROW   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TARGET  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670200" y="2608560"/>
              <a:ext cx="866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BROAD COS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657240" y="3751560"/>
              <a:ext cx="8604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FOCUS COS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809960" y="2608560"/>
              <a:ext cx="1162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DIFFERENTIAT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809960" y="3751560"/>
              <a:ext cx="116208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DIFFERENTIAT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FOCU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"/>
          <p:cNvGrpSpPr/>
          <p:nvPr/>
        </p:nvGrpSpPr>
        <p:grpSpPr>
          <a:xfrm>
            <a:off x="2268360" y="907920"/>
            <a:ext cx="4313520" cy="1447560"/>
            <a:chOff x="2268360" y="907920"/>
            <a:chExt cx="4313520" cy="1447560"/>
          </a:xfrm>
        </p:grpSpPr>
        <p:sp>
          <p:nvSpPr>
            <p:cNvPr id="357" name=""/>
            <p:cNvSpPr/>
            <p:nvPr/>
          </p:nvSpPr>
          <p:spPr>
            <a:xfrm>
              <a:off x="5611320" y="1993680"/>
              <a:ext cx="246240" cy="361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359800" y="1373400"/>
              <a:ext cx="1379160" cy="465480"/>
            </a:xfrm>
            <a:custGeom>
              <a:avLst/>
              <a:gdLst/>
              <a:ahLst/>
              <a:rect l="l" t="t" r="r" b="b"/>
              <a:pathLst>
                <a:path w="1344" h="432">
                  <a:moveTo>
                    <a:pt x="1344" y="0"/>
                  </a:moveTo>
                  <a:lnTo>
                    <a:pt x="0" y="0"/>
                  </a:lnTo>
                  <a:lnTo>
                    <a:pt x="0" y="432"/>
                  </a:lnTo>
                  <a:lnTo>
                    <a:pt x="1344" y="4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738960" y="1373400"/>
              <a:ext cx="146520" cy="465480"/>
            </a:xfrm>
            <a:custGeom>
              <a:avLst/>
              <a:gdLst/>
              <a:ahLst/>
              <a:rect l="l" t="t" r="r" b="b"/>
              <a:pathLst>
                <a:path w="143" h="432">
                  <a:moveTo>
                    <a:pt x="0" y="0"/>
                  </a:moveTo>
                  <a:lnTo>
                    <a:pt x="143" y="219"/>
                  </a:lnTo>
                  <a:lnTo>
                    <a:pt x="0" y="4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606040" y="1373400"/>
              <a:ext cx="0" cy="46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098880" y="1373400"/>
              <a:ext cx="0" cy="46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344760" y="1373400"/>
              <a:ext cx="0" cy="46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591000" y="1373400"/>
              <a:ext cx="0" cy="46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852640" y="1373400"/>
              <a:ext cx="0" cy="46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852640" y="1373400"/>
              <a:ext cx="246240" cy="4654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268360" y="1899000"/>
              <a:ext cx="161424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Impact"/>
                </a:rPr>
                <a:t>core competen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2901240" y="1631520"/>
              <a:ext cx="98280" cy="30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873320" y="1373400"/>
              <a:ext cx="1379160" cy="464760"/>
            </a:xfrm>
            <a:custGeom>
              <a:avLst/>
              <a:gdLst/>
              <a:ahLst/>
              <a:rect l="l" t="t" r="r" b="b"/>
              <a:pathLst>
                <a:path w="1344" h="432">
                  <a:moveTo>
                    <a:pt x="1344" y="0"/>
                  </a:moveTo>
                  <a:lnTo>
                    <a:pt x="0" y="0"/>
                  </a:lnTo>
                  <a:lnTo>
                    <a:pt x="0" y="432"/>
                  </a:lnTo>
                  <a:lnTo>
                    <a:pt x="1344" y="432"/>
                  </a:lnTo>
                </a:path>
              </a:pathLst>
            </a:cu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252840" y="1373400"/>
              <a:ext cx="145800" cy="464760"/>
            </a:xfrm>
            <a:custGeom>
              <a:avLst/>
              <a:gdLst/>
              <a:ahLst/>
              <a:rect l="l" t="t" r="r" b="b"/>
              <a:pathLst>
                <a:path w="143" h="432">
                  <a:moveTo>
                    <a:pt x="0" y="0"/>
                  </a:moveTo>
                  <a:lnTo>
                    <a:pt x="143" y="219"/>
                  </a:lnTo>
                  <a:lnTo>
                    <a:pt x="0" y="432"/>
                  </a:lnTo>
                </a:path>
              </a:pathLst>
            </a:cu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119200" y="1373400"/>
              <a:ext cx="0" cy="4647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611320" y="1373400"/>
              <a:ext cx="0" cy="46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857920" y="1373400"/>
              <a:ext cx="0" cy="4647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103440" y="1373400"/>
              <a:ext cx="0" cy="4647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365440" y="1373400"/>
              <a:ext cx="0" cy="46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365440" y="1373400"/>
              <a:ext cx="245520" cy="4647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5414760" y="1631520"/>
              <a:ext cx="98280" cy="30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103440" y="1993680"/>
              <a:ext cx="247680" cy="2592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119200" y="1011240"/>
              <a:ext cx="246240" cy="20628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873320" y="1941840"/>
              <a:ext cx="245520" cy="25848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857920" y="907920"/>
              <a:ext cx="245520" cy="30996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5365440" y="1063080"/>
              <a:ext cx="492120" cy="5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>
              <a:off x="4971960" y="1217880"/>
              <a:ext cx="245520" cy="72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5513040" y="1113840"/>
              <a:ext cx="344880" cy="25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 flipV="1">
              <a:off x="5315760" y="1217880"/>
              <a:ext cx="14796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5070240" y="1684440"/>
              <a:ext cx="295200" cy="2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119200" y="2046600"/>
              <a:ext cx="492120" cy="15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562360" y="1838160"/>
              <a:ext cx="19656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956200" y="1217880"/>
              <a:ext cx="247680" cy="77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857920" y="2149560"/>
              <a:ext cx="24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611320" y="1631880"/>
              <a:ext cx="492120" cy="36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5834520" y="1182240"/>
              <a:ext cx="98280" cy="77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737600" y="1913760"/>
              <a:ext cx="1844280" cy="28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Impact"/>
                </a:rPr>
                <a:t>core competen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1763640" y="3357720"/>
            <a:ext cx="5668560" cy="2011320"/>
            <a:chOff x="1763640" y="3357720"/>
            <a:chExt cx="5668560" cy="2011320"/>
          </a:xfrm>
        </p:grpSpPr>
        <p:sp>
          <p:nvSpPr>
            <p:cNvPr id="394" name=""/>
            <p:cNvSpPr/>
            <p:nvPr/>
          </p:nvSpPr>
          <p:spPr>
            <a:xfrm>
              <a:off x="3816360" y="3940560"/>
              <a:ext cx="1569960" cy="1428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600440" y="3940560"/>
              <a:ext cx="0" cy="142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16360" y="4654800"/>
              <a:ext cx="156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937040" y="3902400"/>
              <a:ext cx="298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838680" y="4170960"/>
              <a:ext cx="298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456440" y="3988080"/>
              <a:ext cx="298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044960" y="4796280"/>
              <a:ext cx="298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799160" y="4977360"/>
              <a:ext cx="298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059720" y="4497840"/>
              <a:ext cx="67680" cy="356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>
              <a:off x="4059720" y="4229280"/>
              <a:ext cx="549000" cy="88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197240" y="5034600"/>
              <a:ext cx="684360" cy="178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949280" y="4229280"/>
              <a:ext cx="136440" cy="893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4608720" y="4139280"/>
              <a:ext cx="409320" cy="90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059720" y="4407120"/>
              <a:ext cx="821880" cy="7160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4263840" y="4138920"/>
              <a:ext cx="754200" cy="8060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608720" y="4229280"/>
              <a:ext cx="272880" cy="90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4263480" y="4318200"/>
              <a:ext cx="274680" cy="627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816360" y="3940560"/>
              <a:ext cx="1569960" cy="0"/>
            </a:xfrm>
            <a:prstGeom prst="line">
              <a:avLst/>
            </a:prstGeom>
            <a:ln cap="rnd" w="7632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208760" y="3464280"/>
              <a:ext cx="728280" cy="415800"/>
            </a:xfrm>
            <a:custGeom>
              <a:avLst/>
              <a:gdLst/>
              <a:ahLst/>
              <a:rect l="l" t="t" r="r" b="b"/>
              <a:pathLst>
                <a:path w="624" h="336">
                  <a:moveTo>
                    <a:pt x="0" y="0"/>
                  </a:moveTo>
                  <a:lnTo>
                    <a:pt x="288" y="336"/>
                  </a:lnTo>
                  <a:lnTo>
                    <a:pt x="624" y="14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323600" y="4363200"/>
              <a:ext cx="9997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Impact"/>
                </a:rPr>
                <a:t>web of allianc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689360" y="3432600"/>
              <a:ext cx="175572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Impact"/>
                </a:rPr>
                <a:t>threat of entra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037600" y="3357720"/>
              <a:ext cx="1761840" cy="48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Impact"/>
                </a:rPr>
                <a:t>increased barrier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Impact"/>
                </a:rPr>
                <a:t>to en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226320" y="3723120"/>
              <a:ext cx="45684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238000" y="4180320"/>
              <a:ext cx="36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238000" y="4271760"/>
              <a:ext cx="36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238000" y="4363200"/>
              <a:ext cx="36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238000" y="5186160"/>
              <a:ext cx="36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238000" y="5003280"/>
              <a:ext cx="36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695200" y="4180320"/>
              <a:ext cx="91080" cy="1005480"/>
            </a:xfrm>
            <a:custGeom>
              <a:avLst/>
              <a:gdLst/>
              <a:ahLst/>
              <a:rect l="l" t="t" r="r" b="b"/>
              <a:pathLst>
                <a:path w="144" h="1584">
                  <a:moveTo>
                    <a:pt x="0" y="0"/>
                  </a:moveTo>
                  <a:lnTo>
                    <a:pt x="144" y="0"/>
                  </a:lnTo>
                  <a:lnTo>
                    <a:pt x="144" y="1584"/>
                  </a:lnTo>
                  <a:lnTo>
                    <a:pt x="0" y="158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695200" y="4271760"/>
              <a:ext cx="1737000" cy="7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Impact"/>
                </a:rPr>
                <a:t>buyers connected to alliance = higher switching cos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3225960" y="4363200"/>
              <a:ext cx="639720" cy="27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 flipV="1">
              <a:off x="3225960" y="4728600"/>
              <a:ext cx="731160" cy="27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763640" y="4363200"/>
              <a:ext cx="1761840" cy="48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Impact"/>
                </a:rPr>
                <a:t>greater powe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Impact"/>
                </a:rPr>
                <a:t>over supplier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95280" y="5727600"/>
            <a:ext cx="741672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pter 6 Extra Figures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page 2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8"/>
          <a:stretch/>
        </p:blipFill>
        <p:spPr>
          <a:xfrm>
            <a:off x="7812000" y="5084640"/>
            <a:ext cx="101916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"/>
          <p:cNvGrpSpPr/>
          <p:nvPr/>
        </p:nvGrpSpPr>
        <p:grpSpPr>
          <a:xfrm>
            <a:off x="900000" y="1125360"/>
            <a:ext cx="3807000" cy="1428840"/>
            <a:chOff x="900000" y="1125360"/>
            <a:chExt cx="3807000" cy="1428840"/>
          </a:xfrm>
        </p:grpSpPr>
        <p:sp>
          <p:nvSpPr>
            <p:cNvPr id="431" name=""/>
            <p:cNvSpPr/>
            <p:nvPr/>
          </p:nvSpPr>
          <p:spPr>
            <a:xfrm>
              <a:off x="1842120" y="1125360"/>
              <a:ext cx="1569960" cy="1428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626200" y="1125360"/>
              <a:ext cx="0" cy="14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842120" y="1839600"/>
              <a:ext cx="156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908800" y="2039760"/>
              <a:ext cx="2984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842120" y="2039760"/>
              <a:ext cx="2984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299320" y="1399680"/>
              <a:ext cx="628560" cy="819720"/>
            </a:xfrm>
            <a:custGeom>
              <a:avLst/>
              <a:gdLst/>
              <a:ahLst/>
              <a:rect l="l" t="t" r="r" b="b"/>
              <a:pathLst>
                <a:path w="381" h="463">
                  <a:moveTo>
                    <a:pt x="381" y="463"/>
                  </a:moveTo>
                  <a:cubicBezTo>
                    <a:pt x="350" y="447"/>
                    <a:pt x="260" y="447"/>
                    <a:pt x="197" y="370"/>
                  </a:cubicBezTo>
                  <a:cubicBezTo>
                    <a:pt x="134" y="293"/>
                    <a:pt x="41" y="77"/>
                    <a:pt x="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070720" y="1402200"/>
              <a:ext cx="172440" cy="790200"/>
            </a:xfrm>
            <a:custGeom>
              <a:avLst/>
              <a:gdLst/>
              <a:ahLst/>
              <a:rect l="l" t="t" r="r" b="b"/>
              <a:pathLst>
                <a:path w="272" h="1244">
                  <a:moveTo>
                    <a:pt x="0" y="1244"/>
                  </a:moveTo>
                  <a:cubicBezTo>
                    <a:pt x="64" y="1225"/>
                    <a:pt x="136" y="1215"/>
                    <a:pt x="181" y="1008"/>
                  </a:cubicBezTo>
                  <a:cubicBezTo>
                    <a:pt x="226" y="801"/>
                    <a:pt x="253" y="210"/>
                    <a:pt x="27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019160" y="2039760"/>
              <a:ext cx="9140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Impact"/>
                </a:rPr>
                <a:t>low-cos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Impact"/>
                </a:rPr>
                <a:t>produc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939400" y="2039760"/>
              <a:ext cx="1767600" cy="28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Impact"/>
                </a:rPr>
                <a:t>exclusive design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900000" y="1308240"/>
              <a:ext cx="1033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Impact"/>
                </a:rPr>
                <a:t>broad marke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Impact"/>
                </a:rPr>
                <a:t>domin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025000" y="1125360"/>
              <a:ext cx="54828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482200" y="1308240"/>
              <a:ext cx="155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573640" y="1308240"/>
              <a:ext cx="16149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47960" y="1308240"/>
              <a:ext cx="14932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939400" y="1308240"/>
              <a:ext cx="15541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122280" y="1308240"/>
              <a:ext cx="15235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5724360" y="1125360"/>
            <a:ext cx="1646280" cy="1428480"/>
            <a:chOff x="5724360" y="1125360"/>
            <a:chExt cx="1646280" cy="1428480"/>
          </a:xfrm>
        </p:grpSpPr>
        <p:grpSp>
          <p:nvGrpSpPr>
            <p:cNvPr id="448" name=""/>
            <p:cNvGrpSpPr/>
            <p:nvPr/>
          </p:nvGrpSpPr>
          <p:grpSpPr>
            <a:xfrm>
              <a:off x="5724360" y="1125360"/>
              <a:ext cx="1570320" cy="1428480"/>
              <a:chOff x="5724360" y="1125360"/>
              <a:chExt cx="1570320" cy="1428480"/>
            </a:xfrm>
          </p:grpSpPr>
          <p:sp>
            <p:nvSpPr>
              <p:cNvPr id="449" name=""/>
              <p:cNvSpPr/>
              <p:nvPr/>
            </p:nvSpPr>
            <p:spPr>
              <a:xfrm>
                <a:off x="5724360" y="1125360"/>
                <a:ext cx="1570320" cy="1428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6508440" y="1125360"/>
                <a:ext cx="0" cy="1428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724360" y="1839600"/>
                <a:ext cx="1570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2" name=""/>
            <p:cNvSpPr/>
            <p:nvPr/>
          </p:nvSpPr>
          <p:spPr>
            <a:xfrm>
              <a:off x="6742440" y="2116080"/>
              <a:ext cx="628200" cy="28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Impact"/>
                </a:rPr>
                <a:t>Jagu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876640" y="1353960"/>
              <a:ext cx="471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Impact"/>
                </a:rPr>
                <a:t>For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638760" y="1353960"/>
              <a:ext cx="56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Impact"/>
                </a:rPr>
                <a:t>Volv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3840" y="1887480"/>
              <a:ext cx="82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Impact"/>
                </a:rPr>
                <a:t>Landro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257880" y="15062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>
              <a:off x="6638400" y="1582560"/>
              <a:ext cx="15228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715080" y="2116080"/>
              <a:ext cx="75960" cy="152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181560" y="158256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871960" y="1582560"/>
              <a:ext cx="919080" cy="692280"/>
            </a:xfrm>
            <a:custGeom>
              <a:avLst/>
              <a:gdLst/>
              <a:ahLst/>
              <a:rect l="l" t="t" r="r" b="b"/>
              <a:pathLst>
                <a:path w="1447" h="1090">
                  <a:moveTo>
                    <a:pt x="343" y="0"/>
                  </a:moveTo>
                  <a:cubicBezTo>
                    <a:pt x="312" y="74"/>
                    <a:pt x="176" y="280"/>
                    <a:pt x="155" y="444"/>
                  </a:cubicBezTo>
                  <a:cubicBezTo>
                    <a:pt x="134" y="608"/>
                    <a:pt x="0" y="878"/>
                    <a:pt x="215" y="984"/>
                  </a:cubicBezTo>
                  <a:cubicBezTo>
                    <a:pt x="430" y="1090"/>
                    <a:pt x="1190" y="1060"/>
                    <a:pt x="1447" y="10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088760" y="1572840"/>
              <a:ext cx="96480" cy="649440"/>
            </a:xfrm>
            <a:custGeom>
              <a:avLst/>
              <a:gdLst/>
              <a:ahLst/>
              <a:rect l="l" t="t" r="r" b="b"/>
              <a:pathLst>
                <a:path w="56" h="390">
                  <a:moveTo>
                    <a:pt x="12" y="0"/>
                  </a:moveTo>
                  <a:cubicBezTo>
                    <a:pt x="20" y="9"/>
                    <a:pt x="42" y="13"/>
                    <a:pt x="48" y="54"/>
                  </a:cubicBezTo>
                  <a:cubicBezTo>
                    <a:pt x="54" y="95"/>
                    <a:pt x="56" y="190"/>
                    <a:pt x="48" y="246"/>
                  </a:cubicBezTo>
                  <a:cubicBezTo>
                    <a:pt x="40" y="302"/>
                    <a:pt x="20" y="346"/>
                    <a:pt x="0" y="39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24360" y="2085480"/>
              <a:ext cx="628200" cy="28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Impact"/>
                </a:rPr>
                <a:t>Mazd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2700360" y="3429000"/>
            <a:ext cx="3749400" cy="1189080"/>
            <a:chOff x="2700360" y="3429000"/>
            <a:chExt cx="3749400" cy="1189080"/>
          </a:xfrm>
        </p:grpSpPr>
        <p:grpSp>
          <p:nvGrpSpPr>
            <p:cNvPr id="464" name=""/>
            <p:cNvGrpSpPr/>
            <p:nvPr/>
          </p:nvGrpSpPr>
          <p:grpSpPr>
            <a:xfrm>
              <a:off x="2791800" y="3429000"/>
              <a:ext cx="1188720" cy="1189080"/>
              <a:chOff x="2791800" y="3429000"/>
              <a:chExt cx="1188720" cy="1189080"/>
            </a:xfrm>
          </p:grpSpPr>
          <p:sp>
            <p:nvSpPr>
              <p:cNvPr id="465" name=""/>
              <p:cNvSpPr/>
              <p:nvPr/>
            </p:nvSpPr>
            <p:spPr>
              <a:xfrm>
                <a:off x="2791800" y="3429000"/>
                <a:ext cx="1188720" cy="1189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3385440" y="3429000"/>
                <a:ext cx="0" cy="118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2791800" y="4023360"/>
                <a:ext cx="118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4986720" y="3429000"/>
              <a:ext cx="1188720" cy="1189080"/>
              <a:chOff x="4986720" y="3429000"/>
              <a:chExt cx="1188720" cy="1189080"/>
            </a:xfrm>
          </p:grpSpPr>
          <p:sp>
            <p:nvSpPr>
              <p:cNvPr id="469" name=""/>
              <p:cNvSpPr/>
              <p:nvPr/>
            </p:nvSpPr>
            <p:spPr>
              <a:xfrm>
                <a:off x="4986720" y="3429000"/>
                <a:ext cx="1188720" cy="1189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580360" y="3429000"/>
                <a:ext cx="0" cy="118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986720" y="4023360"/>
                <a:ext cx="118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2" name=""/>
            <p:cNvSpPr/>
            <p:nvPr/>
          </p:nvSpPr>
          <p:spPr>
            <a:xfrm flipV="1">
              <a:off x="3066120" y="3703320"/>
              <a:ext cx="640080" cy="640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614760" y="3520440"/>
              <a:ext cx="471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Impact"/>
                </a:rPr>
                <a:t>B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700360" y="4252320"/>
              <a:ext cx="471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Impact"/>
                </a:rPr>
                <a:t>G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443920" y="3520440"/>
              <a:ext cx="91440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Impact"/>
                </a:rPr>
                <a:t>BM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320800" y="3794760"/>
              <a:ext cx="613440" cy="619920"/>
            </a:xfrm>
            <a:custGeom>
              <a:avLst/>
              <a:gdLst/>
              <a:ahLst/>
              <a:rect l="l" t="t" r="r" b="b"/>
              <a:pathLst>
                <a:path w="966" h="976">
                  <a:moveTo>
                    <a:pt x="626" y="0"/>
                  </a:moveTo>
                  <a:cubicBezTo>
                    <a:pt x="586" y="29"/>
                    <a:pt x="476" y="70"/>
                    <a:pt x="386" y="172"/>
                  </a:cubicBezTo>
                  <a:cubicBezTo>
                    <a:pt x="296" y="274"/>
                    <a:pt x="142" y="497"/>
                    <a:pt x="86" y="612"/>
                  </a:cubicBezTo>
                  <a:cubicBezTo>
                    <a:pt x="30" y="727"/>
                    <a:pt x="0" y="807"/>
                    <a:pt x="50" y="864"/>
                  </a:cubicBezTo>
                  <a:cubicBezTo>
                    <a:pt x="100" y="921"/>
                    <a:pt x="290" y="976"/>
                    <a:pt x="386" y="952"/>
                  </a:cubicBezTo>
                  <a:cubicBezTo>
                    <a:pt x="482" y="928"/>
                    <a:pt x="529" y="877"/>
                    <a:pt x="626" y="720"/>
                  </a:cubicBezTo>
                  <a:cubicBezTo>
                    <a:pt x="723" y="563"/>
                    <a:pt x="895" y="159"/>
                    <a:pt x="966" y="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078160" y="4069080"/>
              <a:ext cx="91440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Impact"/>
                </a:rPr>
                <a:t>Ro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340440" y="3886200"/>
              <a:ext cx="91440" cy="274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535360" y="3794760"/>
              <a:ext cx="91440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Impact"/>
                </a:rPr>
                <a:t>Ro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95280" y="5591160"/>
            <a:ext cx="74167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pter 6 Extra Figures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pages 246 and 2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7812000" y="5084640"/>
            <a:ext cx="101916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95280" y="5362200"/>
            <a:ext cx="7416720" cy="13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6.5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more representative or all-encompassing strategy frame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Figure titled ‘Tree of Strategic Management’, from ‘Implanting Strategic Management’ (1984), Pearson Education, Inc., Upper Saddle River, NJ. By Ansoff, H.I., ©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1"/>
          <a:stretch/>
        </p:blipFill>
        <p:spPr>
          <a:xfrm>
            <a:off x="7812000" y="5084640"/>
            <a:ext cx="1019160" cy="1476360"/>
          </a:xfrm>
          <a:prstGeom prst="rect">
            <a:avLst/>
          </a:prstGeom>
          <a:ln w="0">
            <a:noFill/>
          </a:ln>
        </p:spPr>
      </p:pic>
      <p:grpSp>
        <p:nvGrpSpPr>
          <p:cNvPr id="486" name=""/>
          <p:cNvGrpSpPr/>
          <p:nvPr/>
        </p:nvGrpSpPr>
        <p:grpSpPr>
          <a:xfrm>
            <a:off x="1835280" y="404640"/>
            <a:ext cx="5303880" cy="4555800"/>
            <a:chOff x="1835280" y="404640"/>
            <a:chExt cx="5303880" cy="4555800"/>
          </a:xfrm>
        </p:grpSpPr>
        <p:sp>
          <p:nvSpPr>
            <p:cNvPr id="487" name=""/>
            <p:cNvSpPr/>
            <p:nvPr/>
          </p:nvSpPr>
          <p:spPr>
            <a:xfrm>
              <a:off x="5676120" y="2675160"/>
              <a:ext cx="1463040" cy="45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strategic plannin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(2.1, 2.3.8, 2.3.9, 2.4, 2.5, 2.6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938400" y="404640"/>
              <a:ext cx="1005840" cy="18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Environment  (1.1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938400" y="770040"/>
              <a:ext cx="1005840" cy="25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trigger (5.1, 5.2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755520" y="1044360"/>
              <a:ext cx="1280160" cy="273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response managed? (7.2.1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201040" y="1227240"/>
              <a:ext cx="1280160" cy="273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organic adaptation (7.2.1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395600" y="587160"/>
              <a:ext cx="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395600" y="952920"/>
              <a:ext cx="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>
              <a:off x="3389760" y="1226520"/>
              <a:ext cx="365760" cy="9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389760" y="1044360"/>
              <a:ext cx="365760" cy="18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395600" y="1227240"/>
              <a:ext cx="0" cy="27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846960" y="1501560"/>
              <a:ext cx="1188720" cy="25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plan or act? (7.2.5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487040" y="1318680"/>
              <a:ext cx="365760" cy="18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y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395600" y="1684440"/>
              <a:ext cx="0" cy="27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2932560" y="1683720"/>
              <a:ext cx="109728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852800" y="1683720"/>
              <a:ext cx="109728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481200" y="1501560"/>
              <a:ext cx="365760" cy="18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ac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310360" y="1501560"/>
              <a:ext cx="365760" cy="25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pla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487040" y="1684440"/>
              <a:ext cx="365760" cy="18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bot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755520" y="1958760"/>
              <a:ext cx="128016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strategic learnin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(2.3.11, 2.6.8, 5.5.4, 7.2.5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218920" y="1867320"/>
              <a:ext cx="1371600" cy="25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position or issues? (7.2.4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201040" y="1867320"/>
              <a:ext cx="1463040" cy="25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ad hoc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or systematic? (7.2.5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041880" y="2035080"/>
              <a:ext cx="274320" cy="27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>
              <a:off x="4578480" y="2035080"/>
              <a:ext cx="146304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133320" y="2309400"/>
              <a:ext cx="548640" cy="273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395600" y="2400840"/>
              <a:ext cx="457200" cy="18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issu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578480" y="2583720"/>
              <a:ext cx="182880" cy="100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>
              <a:off x="4487040" y="2583720"/>
              <a:ext cx="91440" cy="82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 flipH="1">
              <a:off x="4304160" y="2583720"/>
              <a:ext cx="27432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499080" y="2492280"/>
              <a:ext cx="18288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5584680" y="2492280"/>
              <a:ext cx="91440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669920" y="2675160"/>
              <a:ext cx="109728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apability plannin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(2.2, 3.3, 3.4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499080" y="2949480"/>
              <a:ext cx="36576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 flipH="1">
              <a:off x="6133320" y="2949480"/>
              <a:ext cx="36576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407640" y="3132360"/>
              <a:ext cx="731520" cy="45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ompetitiv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postu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(2.2, 5.5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859000" y="3132360"/>
              <a:ext cx="54864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portfoli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(2.3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310360" y="2949480"/>
              <a:ext cx="1463040" cy="10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310360" y="2949480"/>
              <a:ext cx="822960" cy="9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310360" y="2949480"/>
              <a:ext cx="640080" cy="127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310360" y="2949480"/>
              <a:ext cx="182880" cy="118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35280" y="2217960"/>
              <a:ext cx="100584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ad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hoc 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managemen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(7.2.3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749680" y="2035080"/>
              <a:ext cx="54864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>
              <a:off x="2383920" y="2035080"/>
              <a:ext cx="36576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15440" y="2217960"/>
              <a:ext cx="640080" cy="18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systemati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389760" y="2400840"/>
              <a:ext cx="91440" cy="27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 flipH="1">
              <a:off x="2383920" y="2400840"/>
              <a:ext cx="1005840" cy="27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926720" y="2675160"/>
              <a:ext cx="82296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which mode?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(5.5, 5.5.4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115440" y="2675160"/>
              <a:ext cx="82296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which process?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(6.1, 6.2, 6.3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383920" y="2949480"/>
              <a:ext cx="36576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83920" y="2949480"/>
              <a:ext cx="274320" cy="100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2292480" y="2949480"/>
              <a:ext cx="91440" cy="63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>
              <a:off x="2018160" y="2949480"/>
              <a:ext cx="36576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658240" y="3132360"/>
              <a:ext cx="64008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one ste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(2.2.11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572640" y="2949480"/>
              <a:ext cx="548640" cy="10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 flipH="1">
              <a:off x="3481200" y="2949480"/>
              <a:ext cx="91440" cy="73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024000" y="2949480"/>
              <a:ext cx="548640" cy="1554120"/>
            </a:xfrm>
            <a:custGeom>
              <a:avLst/>
              <a:gdLst/>
              <a:ahLst/>
              <a:rect l="l" t="t" r="r" b="b"/>
              <a:pathLst>
                <a:path w="576" h="2016">
                  <a:moveTo>
                    <a:pt x="576" y="0"/>
                  </a:moveTo>
                  <a:lnTo>
                    <a:pt x="0" y="1296"/>
                  </a:lnTo>
                  <a:lnTo>
                    <a:pt x="0" y="201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206880" y="3680640"/>
              <a:ext cx="731520" cy="45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discontinu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projec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(6.4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201040" y="3954960"/>
              <a:ext cx="822960" cy="45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progressiv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ommitmen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(2.3.11, 2.6.8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658240" y="4503600"/>
              <a:ext cx="91440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oercive chang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(6.3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755520" y="4046400"/>
              <a:ext cx="100584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institutionaliza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(6.5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835280" y="3589200"/>
              <a:ext cx="640080" cy="45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monito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(5.2, 5.2.3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835280" y="3132360"/>
              <a:ext cx="45720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risi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(6..3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212720" y="3406320"/>
              <a:ext cx="457200" cy="45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wea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sign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(5.4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846960" y="2949480"/>
              <a:ext cx="548640" cy="45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stron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sign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(5.3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578480" y="3589200"/>
              <a:ext cx="731520" cy="45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risi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preparednes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(1.2.7, 5.2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852800" y="4137840"/>
              <a:ext cx="100584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informa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(5.2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67560" y="4229280"/>
              <a:ext cx="54864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structu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(4.2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950440" y="3863520"/>
              <a:ext cx="54864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syste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(4.2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590520" y="4046400"/>
              <a:ext cx="54864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manag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(4.1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304160" y="4595040"/>
              <a:ext cx="182880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ulture/mentality/pow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(4.1, 5.1, 5.2.3, 5.2.4, 5.2.5, 6.1, 6.4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95280" y="5270400"/>
            <a:ext cx="7416720" cy="15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igure 6.7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Mr. Beck’s ‘Postmodern’ map and the more geographically representative map that it repla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urce: Left – Underground Map of London c. 1920’s; Right – Harry Beck’s 1933 Underground Map of London. Both maps reproduced with the kind permission of The London Transport Muse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" descr=""/>
          <p:cNvPicPr/>
          <p:nvPr/>
        </p:nvPicPr>
        <p:blipFill>
          <a:blip r:embed="rId1"/>
          <a:stretch/>
        </p:blipFill>
        <p:spPr>
          <a:xfrm>
            <a:off x="7812000" y="5084640"/>
            <a:ext cx="1019160" cy="1476360"/>
          </a:xfrm>
          <a:prstGeom prst="rect">
            <a:avLst/>
          </a:prstGeom>
          <a:ln w="0">
            <a:noFill/>
          </a:ln>
        </p:spPr>
      </p:pic>
      <p:pic>
        <p:nvPicPr>
          <p:cNvPr id="559" name="" descr=""/>
          <p:cNvPicPr/>
          <p:nvPr/>
        </p:nvPicPr>
        <p:blipFill>
          <a:blip r:embed="rId2"/>
          <a:stretch/>
        </p:blipFill>
        <p:spPr>
          <a:xfrm>
            <a:off x="324000" y="1052640"/>
            <a:ext cx="3960720" cy="3106440"/>
          </a:xfrm>
          <a:prstGeom prst="rect">
            <a:avLst/>
          </a:prstGeom>
          <a:ln w="0">
            <a:noFill/>
          </a:ln>
        </p:spPr>
      </p:pic>
      <p:pic>
        <p:nvPicPr>
          <p:cNvPr id="560" name="" descr=""/>
          <p:cNvPicPr/>
          <p:nvPr/>
        </p:nvPicPr>
        <p:blipFill>
          <a:blip r:embed="rId3"/>
          <a:stretch/>
        </p:blipFill>
        <p:spPr>
          <a:xfrm>
            <a:off x="4500720" y="907920"/>
            <a:ext cx="424800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1763640" y="1773360"/>
            <a:ext cx="1513080" cy="198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 Established production s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 Low deb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 Clever employe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 Unique produ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 Good repu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Established links with suppli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948200" y="2514600"/>
            <a:ext cx="1015920" cy="45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stablished production sit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066000" y="2062080"/>
            <a:ext cx="610920" cy="33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low deb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4336920" y="1836720"/>
            <a:ext cx="712800" cy="45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lever employe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4032360" y="2739960"/>
            <a:ext cx="609480" cy="45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unique produc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066000" y="3192480"/>
            <a:ext cx="712800" cy="45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good reput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743360" y="3305160"/>
            <a:ext cx="814320" cy="566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stablished links with suppli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824440" y="2647800"/>
            <a:ext cx="401760" cy="657360"/>
          </a:xfrm>
          <a:custGeom>
            <a:avLst/>
            <a:gdLst/>
            <a:ahLst/>
            <a:rect l="l" t="t" r="r" b="b"/>
            <a:pathLst>
              <a:path w="567" h="838">
                <a:moveTo>
                  <a:pt x="0" y="130"/>
                </a:moveTo>
                <a:cubicBezTo>
                  <a:pt x="78" y="128"/>
                  <a:pt x="405" y="0"/>
                  <a:pt x="486" y="118"/>
                </a:cubicBezTo>
                <a:cubicBezTo>
                  <a:pt x="567" y="236"/>
                  <a:pt x="486" y="718"/>
                  <a:pt x="486" y="83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456160" y="2967120"/>
            <a:ext cx="712800" cy="677880"/>
          </a:xfrm>
          <a:custGeom>
            <a:avLst/>
            <a:gdLst/>
            <a:ahLst/>
            <a:rect l="l" t="t" r="r" b="b"/>
            <a:pathLst>
              <a:path w="1032" h="1224">
                <a:moveTo>
                  <a:pt x="1032" y="792"/>
                </a:moveTo>
                <a:cubicBezTo>
                  <a:pt x="684" y="396"/>
                  <a:pt x="336" y="0"/>
                  <a:pt x="168" y="72"/>
                </a:cubicBezTo>
                <a:cubicBezTo>
                  <a:pt x="0" y="144"/>
                  <a:pt x="48" y="1032"/>
                  <a:pt x="24" y="12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456160" y="3137040"/>
            <a:ext cx="712800" cy="507960"/>
          </a:xfrm>
          <a:custGeom>
            <a:avLst/>
            <a:gdLst/>
            <a:ahLst/>
            <a:rect l="l" t="t" r="r" b="b"/>
            <a:pathLst>
              <a:path w="1008" h="648">
                <a:moveTo>
                  <a:pt x="0" y="648"/>
                </a:moveTo>
                <a:cubicBezTo>
                  <a:pt x="204" y="396"/>
                  <a:pt x="408" y="144"/>
                  <a:pt x="576" y="72"/>
                </a:cubicBezTo>
                <a:cubicBezTo>
                  <a:pt x="744" y="0"/>
                  <a:pt x="876" y="108"/>
                  <a:pt x="1008" y="2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796000" y="1685880"/>
            <a:ext cx="576360" cy="1077840"/>
          </a:xfrm>
          <a:custGeom>
            <a:avLst/>
            <a:gdLst/>
            <a:ahLst/>
            <a:rect l="l" t="t" r="r" b="b"/>
            <a:pathLst>
              <a:path w="815" h="1373">
                <a:moveTo>
                  <a:pt x="26" y="1341"/>
                </a:moveTo>
                <a:cubicBezTo>
                  <a:pt x="21" y="1319"/>
                  <a:pt x="0" y="1373"/>
                  <a:pt x="11" y="1206"/>
                </a:cubicBezTo>
                <a:cubicBezTo>
                  <a:pt x="22" y="1039"/>
                  <a:pt x="33" y="529"/>
                  <a:pt x="95" y="336"/>
                </a:cubicBezTo>
                <a:cubicBezTo>
                  <a:pt x="157" y="143"/>
                  <a:pt x="263" y="0"/>
                  <a:pt x="383" y="48"/>
                </a:cubicBezTo>
                <a:cubicBezTo>
                  <a:pt x="503" y="96"/>
                  <a:pt x="743" y="528"/>
                  <a:pt x="815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948200" y="1703520"/>
            <a:ext cx="1424160" cy="471240"/>
          </a:xfrm>
          <a:custGeom>
            <a:avLst/>
            <a:gdLst/>
            <a:ahLst/>
            <a:rect l="l" t="t" r="r" b="b"/>
            <a:pathLst>
              <a:path w="2016" h="600">
                <a:moveTo>
                  <a:pt x="0" y="456"/>
                </a:moveTo>
                <a:cubicBezTo>
                  <a:pt x="120" y="228"/>
                  <a:pt x="240" y="0"/>
                  <a:pt x="576" y="24"/>
                </a:cubicBezTo>
                <a:cubicBezTo>
                  <a:pt x="912" y="48"/>
                  <a:pt x="1464" y="324"/>
                  <a:pt x="2016" y="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133880" y="1817640"/>
            <a:ext cx="304920" cy="1036800"/>
          </a:xfrm>
          <a:custGeom>
            <a:avLst/>
            <a:gdLst/>
            <a:ahLst/>
            <a:rect l="l" t="t" r="r" b="b"/>
            <a:pathLst>
              <a:path w="432" h="1320">
                <a:moveTo>
                  <a:pt x="432" y="312"/>
                </a:moveTo>
                <a:cubicBezTo>
                  <a:pt x="324" y="156"/>
                  <a:pt x="216" y="0"/>
                  <a:pt x="144" y="168"/>
                </a:cubicBezTo>
                <a:cubicBezTo>
                  <a:pt x="72" y="336"/>
                  <a:pt x="36" y="828"/>
                  <a:pt x="0" y="13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133880" y="2287440"/>
            <a:ext cx="711000" cy="1244880"/>
          </a:xfrm>
          <a:custGeom>
            <a:avLst/>
            <a:gdLst/>
            <a:ahLst/>
            <a:rect l="l" t="t" r="r" b="b"/>
            <a:pathLst>
              <a:path w="1008" h="1584">
                <a:moveTo>
                  <a:pt x="1008" y="1584"/>
                </a:moveTo>
                <a:cubicBezTo>
                  <a:pt x="948" y="936"/>
                  <a:pt x="888" y="288"/>
                  <a:pt x="720" y="144"/>
                </a:cubicBezTo>
                <a:cubicBezTo>
                  <a:pt x="552" y="0"/>
                  <a:pt x="276" y="360"/>
                  <a:pt x="0" y="7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133880" y="2330280"/>
            <a:ext cx="1017720" cy="524160"/>
          </a:xfrm>
          <a:custGeom>
            <a:avLst/>
            <a:gdLst/>
            <a:ahLst/>
            <a:rect l="l" t="t" r="r" b="b"/>
            <a:pathLst>
              <a:path w="1440" h="666">
                <a:moveTo>
                  <a:pt x="1440" y="522"/>
                </a:moveTo>
                <a:cubicBezTo>
                  <a:pt x="1269" y="439"/>
                  <a:pt x="654" y="0"/>
                  <a:pt x="414" y="24"/>
                </a:cubicBezTo>
                <a:cubicBezTo>
                  <a:pt x="174" y="48"/>
                  <a:pt x="86" y="532"/>
                  <a:pt x="0" y="6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948200" y="1628640"/>
            <a:ext cx="1728720" cy="1676520"/>
          </a:xfrm>
          <a:custGeom>
            <a:avLst/>
            <a:gdLst/>
            <a:ahLst/>
            <a:rect l="l" t="t" r="r" b="b"/>
            <a:pathLst>
              <a:path w="2448" h="2136">
                <a:moveTo>
                  <a:pt x="0" y="552"/>
                </a:moveTo>
                <a:cubicBezTo>
                  <a:pt x="84" y="276"/>
                  <a:pt x="168" y="0"/>
                  <a:pt x="576" y="264"/>
                </a:cubicBezTo>
                <a:cubicBezTo>
                  <a:pt x="984" y="528"/>
                  <a:pt x="1716" y="1332"/>
                  <a:pt x="2448" y="21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4844880" y="1703520"/>
            <a:ext cx="322560" cy="1828800"/>
          </a:xfrm>
          <a:custGeom>
            <a:avLst/>
            <a:gdLst/>
            <a:ahLst/>
            <a:rect l="l" t="t" r="r" b="b"/>
            <a:pathLst>
              <a:path w="456" h="2328">
                <a:moveTo>
                  <a:pt x="144" y="456"/>
                </a:moveTo>
                <a:cubicBezTo>
                  <a:pt x="300" y="228"/>
                  <a:pt x="456" y="0"/>
                  <a:pt x="432" y="312"/>
                </a:cubicBezTo>
                <a:cubicBezTo>
                  <a:pt x="408" y="624"/>
                  <a:pt x="204" y="1476"/>
                  <a:pt x="0" y="232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1996920" y="3967200"/>
            <a:ext cx="1119240" cy="33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Conventional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948200" y="3967200"/>
            <a:ext cx="1117800" cy="33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RBV dia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395280" y="5591160"/>
            <a:ext cx="74167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pter 6 Extra Figure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source Based View of the Firm – A list of attributes contrasted with a system of resour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" descr=""/>
          <p:cNvPicPr/>
          <p:nvPr/>
        </p:nvPicPr>
        <p:blipFill>
          <a:blip r:embed="rId1"/>
          <a:stretch/>
        </p:blipFill>
        <p:spPr>
          <a:xfrm>
            <a:off x="7812000" y="5084640"/>
            <a:ext cx="101916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796000" y="724320"/>
            <a:ext cx="3024000" cy="31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igure 7.1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nput→process →output visions of chan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urces: Top – D. Nadler and M. Tushman’s Congruence Model from ‘Organizational Development’ (1980), reproduced with the permission of Oxford University Press, Inc. © 1997; Bottom – R. Beck’s Bank of America Change Model from ‘Change Agenda Model for Bank of America’, from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The Academy of Management Executiv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(vol. 1, 1987), reproduced with the permission of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The Academy of Management Executive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1"/>
          <a:stretch/>
        </p:blipFill>
        <p:spPr>
          <a:xfrm>
            <a:off x="7812000" y="5084640"/>
            <a:ext cx="1019160" cy="1476360"/>
          </a:xfrm>
          <a:prstGeom prst="rect">
            <a:avLst/>
          </a:prstGeom>
          <a:ln w="0">
            <a:noFill/>
          </a:ln>
        </p:spPr>
      </p:pic>
      <p:grpSp>
        <p:nvGrpSpPr>
          <p:cNvPr id="586" name=""/>
          <p:cNvGrpSpPr/>
          <p:nvPr/>
        </p:nvGrpSpPr>
        <p:grpSpPr>
          <a:xfrm>
            <a:off x="684360" y="692280"/>
            <a:ext cx="4481280" cy="2595240"/>
            <a:chOff x="684360" y="692280"/>
            <a:chExt cx="4481280" cy="2595240"/>
          </a:xfrm>
        </p:grpSpPr>
        <p:sp>
          <p:nvSpPr>
            <p:cNvPr id="587" name=""/>
            <p:cNvSpPr/>
            <p:nvPr/>
          </p:nvSpPr>
          <p:spPr>
            <a:xfrm>
              <a:off x="2055960" y="1092600"/>
              <a:ext cx="1829160" cy="16455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434120" y="1550520"/>
              <a:ext cx="731520" cy="82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Organiza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Gro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Individu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84360" y="1550520"/>
              <a:ext cx="731520" cy="82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Environmen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Resourc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415880" y="1682640"/>
              <a:ext cx="640080" cy="507960"/>
            </a:xfrm>
            <a:prstGeom prst="rightArrow">
              <a:avLst>
                <a:gd name="adj1" fmla="val 50000"/>
                <a:gd name="adj2" fmla="val 3150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Times New Roman"/>
                </a:rPr>
                <a:t>strateg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75800" y="1225440"/>
              <a:ext cx="640080" cy="273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604960" y="2282040"/>
              <a:ext cx="731520" cy="365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Individu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604960" y="1184760"/>
              <a:ext cx="731520" cy="365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Inform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Organiza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055960" y="1733400"/>
              <a:ext cx="731520" cy="365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Tas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153600" y="1733400"/>
              <a:ext cx="731520" cy="365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Times New Roman"/>
                </a:rPr>
                <a:t>Formal or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Times New Roman"/>
                </a:rPr>
                <a:t>arrangmen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525560" y="1225440"/>
              <a:ext cx="640080" cy="273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out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147400" y="692280"/>
              <a:ext cx="1737720" cy="273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ransformation proces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885120" y="1682640"/>
              <a:ext cx="548640" cy="507960"/>
            </a:xfrm>
            <a:prstGeom prst="rightArrow">
              <a:avLst>
                <a:gd name="adj1" fmla="val 50000"/>
                <a:gd name="adj2" fmla="val 2700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793680" y="2373480"/>
              <a:ext cx="822960" cy="273960"/>
            </a:xfrm>
            <a:custGeom>
              <a:avLst/>
              <a:gdLst/>
              <a:ahLst/>
              <a:rect l="l" t="t" r="r" b="b"/>
              <a:pathLst>
                <a:path w="1296" h="576">
                  <a:moveTo>
                    <a:pt x="1296" y="0"/>
                  </a:moveTo>
                  <a:lnTo>
                    <a:pt x="1296" y="576"/>
                  </a:lnTo>
                  <a:lnTo>
                    <a:pt x="0" y="576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lg" type="triangle" w="sm"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324440" y="2373480"/>
              <a:ext cx="822960" cy="273960"/>
            </a:xfrm>
            <a:custGeom>
              <a:avLst/>
              <a:gdLst/>
              <a:ahLst/>
              <a:rect l="l" t="t" r="r" b="b"/>
              <a:pathLst>
                <a:path w="1296" h="576">
                  <a:moveTo>
                    <a:pt x="1296" y="0"/>
                  </a:moveTo>
                  <a:lnTo>
                    <a:pt x="1296" y="576"/>
                  </a:lnTo>
                  <a:lnTo>
                    <a:pt x="0" y="576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lg" type="triangle" w="sm"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867240" y="2373480"/>
              <a:ext cx="4115520" cy="548280"/>
            </a:xfrm>
            <a:custGeom>
              <a:avLst/>
              <a:gdLst/>
              <a:ahLst/>
              <a:rect l="l" t="t" r="r" b="b"/>
              <a:pathLst>
                <a:path w="1296" h="576">
                  <a:moveTo>
                    <a:pt x="1296" y="0"/>
                  </a:moveTo>
                  <a:lnTo>
                    <a:pt x="1296" y="576"/>
                  </a:lnTo>
                  <a:lnTo>
                    <a:pt x="0" y="576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lg" type="triangle" w="sm"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970720" y="1550520"/>
              <a:ext cx="0" cy="73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sm"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787840" y="1916280"/>
              <a:ext cx="36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sm"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238840" y="2099160"/>
              <a:ext cx="36576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sm"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 flipV="1">
              <a:off x="2238840" y="1367280"/>
              <a:ext cx="36576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sm"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 flipV="1">
              <a:off x="3336480" y="2098800"/>
              <a:ext cx="36576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sm"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336480" y="1367640"/>
              <a:ext cx="36576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triangle" w="sm"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604960" y="3013560"/>
              <a:ext cx="731520" cy="273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feed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9" name=""/>
          <p:cNvSpPr/>
          <p:nvPr/>
        </p:nvSpPr>
        <p:spPr>
          <a:xfrm>
            <a:off x="2195640" y="4149720"/>
            <a:ext cx="2193840" cy="1828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927520" y="5429160"/>
            <a:ext cx="730080" cy="36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2927520" y="4332240"/>
            <a:ext cx="730080" cy="36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trateg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2378160" y="4881600"/>
            <a:ext cx="639720" cy="36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eop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3567240" y="4881600"/>
            <a:ext cx="639720" cy="36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ai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elief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292560" y="4697280"/>
            <a:ext cx="0" cy="7318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sm"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017880" y="506412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sm"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2560680" y="5246640"/>
            <a:ext cx="366840" cy="3650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sm"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 flipV="1">
            <a:off x="2560680" y="4514400"/>
            <a:ext cx="366840" cy="3668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sm"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 flipV="1">
            <a:off x="3657600" y="5246640"/>
            <a:ext cx="366840" cy="3650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sm"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3657600" y="4514760"/>
            <a:ext cx="366840" cy="3668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sm"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572000" y="4881600"/>
            <a:ext cx="731880" cy="36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463760" y="4881600"/>
            <a:ext cx="639720" cy="36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truc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549360" y="4881600"/>
            <a:ext cx="639720" cy="36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rpor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Valu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1189080" y="5064120"/>
            <a:ext cx="274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2103480" y="5064120"/>
            <a:ext cx="274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4206960" y="5064120"/>
            <a:ext cx="365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378160" y="3875040"/>
            <a:ext cx="1828800" cy="182520"/>
          </a:xfrm>
          <a:custGeom>
            <a:avLst/>
            <a:gdLst/>
            <a:ahLst/>
            <a:rect l="l" t="t" r="r" b="b"/>
            <a:pathLst>
              <a:path w="2880" h="288">
                <a:moveTo>
                  <a:pt x="0" y="288"/>
                </a:moveTo>
                <a:lnTo>
                  <a:pt x="0" y="144"/>
                </a:lnTo>
                <a:lnTo>
                  <a:pt x="1296" y="144"/>
                </a:lnTo>
                <a:lnTo>
                  <a:pt x="1440" y="0"/>
                </a:lnTo>
                <a:lnTo>
                  <a:pt x="1584" y="144"/>
                </a:lnTo>
                <a:lnTo>
                  <a:pt x="2880" y="144"/>
                </a:lnTo>
                <a:lnTo>
                  <a:pt x="2880" y="28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2652840" y="3579840"/>
            <a:ext cx="12794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ORGANIZ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95280" y="5316480"/>
            <a:ext cx="7416720" cy="14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igure 7.2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Kotter’s change management frame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urce: ‘Why Transformation Efforts Fail’, J.P. Kotter,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Harvard Business Review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March-April, 1995). Reproduced with the Permission of The Harvard Business Revie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" descr=""/>
          <p:cNvPicPr/>
          <p:nvPr/>
        </p:nvPicPr>
        <p:blipFill>
          <a:blip r:embed="rId1"/>
          <a:stretch/>
        </p:blipFill>
        <p:spPr>
          <a:xfrm>
            <a:off x="7812000" y="5084640"/>
            <a:ext cx="1019160" cy="1476360"/>
          </a:xfrm>
          <a:prstGeom prst="rect">
            <a:avLst/>
          </a:prstGeom>
          <a:ln w="0">
            <a:noFill/>
          </a:ln>
        </p:spPr>
      </p:pic>
      <p:grpSp>
        <p:nvGrpSpPr>
          <p:cNvPr id="631" name=""/>
          <p:cNvGrpSpPr/>
          <p:nvPr/>
        </p:nvGrpSpPr>
        <p:grpSpPr>
          <a:xfrm>
            <a:off x="2916360" y="907920"/>
            <a:ext cx="3382560" cy="4084560"/>
            <a:chOff x="2916360" y="907920"/>
            <a:chExt cx="3382560" cy="4084560"/>
          </a:xfrm>
        </p:grpSpPr>
        <p:sp>
          <p:nvSpPr>
            <p:cNvPr id="632" name=""/>
            <p:cNvSpPr/>
            <p:nvPr/>
          </p:nvSpPr>
          <p:spPr>
            <a:xfrm>
              <a:off x="2916360" y="1503720"/>
              <a:ext cx="3092760" cy="255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Forming a Powerful Guiding Coalition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916360" y="992880"/>
              <a:ext cx="3092760" cy="255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Establishing a Sense of Urgency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916360" y="2014200"/>
              <a:ext cx="3092760" cy="255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reating a Vision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916360" y="2524680"/>
              <a:ext cx="3092760" cy="255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ommunicating the Vision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916360" y="3035520"/>
              <a:ext cx="3092760" cy="255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Empowering Others to Act on the Vision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916360" y="3546000"/>
              <a:ext cx="3092760" cy="255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Planning for and Creating Short-Term Wins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916360" y="4056480"/>
              <a:ext cx="3092760" cy="255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onsolidating Improvements and Producing Still More Change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916360" y="4567320"/>
              <a:ext cx="3092760" cy="255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Institutionalizing New Approaches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 txBox="1"/>
            <p:nvPr/>
          </p:nvSpPr>
          <p:spPr>
            <a:xfrm>
              <a:off x="5815800" y="907920"/>
              <a:ext cx="192960" cy="35064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b2b2b2"/>
                  </a:solidFill>
                  <a:latin typeface="Arial Black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2b2b2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41" name=""/>
            <p:cNvSpPr txBox="1"/>
            <p:nvPr/>
          </p:nvSpPr>
          <p:spPr>
            <a:xfrm>
              <a:off x="5815800" y="1418400"/>
              <a:ext cx="192960" cy="35064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b2b2b2"/>
                  </a:solidFill>
                  <a:latin typeface="Arial Black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2b2b2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42" name=""/>
            <p:cNvSpPr txBox="1"/>
            <p:nvPr/>
          </p:nvSpPr>
          <p:spPr>
            <a:xfrm>
              <a:off x="5815800" y="1928880"/>
              <a:ext cx="192960" cy="35064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b2b2b2"/>
                  </a:solidFill>
                  <a:latin typeface="Arial Black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2b2b2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43" name=""/>
            <p:cNvSpPr txBox="1"/>
            <p:nvPr/>
          </p:nvSpPr>
          <p:spPr>
            <a:xfrm>
              <a:off x="5815800" y="2439720"/>
              <a:ext cx="192960" cy="35064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b2b2b2"/>
                  </a:solidFill>
                  <a:latin typeface="Arial Black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2b2b2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44" name=""/>
            <p:cNvSpPr txBox="1"/>
            <p:nvPr/>
          </p:nvSpPr>
          <p:spPr>
            <a:xfrm>
              <a:off x="5815800" y="2950200"/>
              <a:ext cx="192960" cy="35064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b2b2b2"/>
                  </a:solidFill>
                  <a:latin typeface="Arial Black"/>
                </a:rPr>
                <a:t>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2b2b2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45" name=""/>
            <p:cNvSpPr txBox="1"/>
            <p:nvPr/>
          </p:nvSpPr>
          <p:spPr>
            <a:xfrm>
              <a:off x="5815800" y="3450240"/>
              <a:ext cx="192960" cy="35064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b2b2b2"/>
                  </a:solidFill>
                  <a:latin typeface="Arial Black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2b2b2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46" name=""/>
            <p:cNvSpPr txBox="1"/>
            <p:nvPr/>
          </p:nvSpPr>
          <p:spPr>
            <a:xfrm>
              <a:off x="5815800" y="3971520"/>
              <a:ext cx="192960" cy="35064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b2b2b2"/>
                  </a:solidFill>
                  <a:latin typeface="Arial Black"/>
                </a:rPr>
                <a:t>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2b2b2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47" name=""/>
            <p:cNvSpPr txBox="1"/>
            <p:nvPr/>
          </p:nvSpPr>
          <p:spPr>
            <a:xfrm>
              <a:off x="5815800" y="4503240"/>
              <a:ext cx="168840" cy="31896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b2b2b2"/>
                  </a:solidFill>
                  <a:latin typeface="Arial Black"/>
                </a:rPr>
                <a:t>8</a:t>
              </a:r>
              <a:endPara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2b2b2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366080" y="1248120"/>
              <a:ext cx="0" cy="25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366080" y="1758960"/>
              <a:ext cx="0" cy="25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366080" y="2269440"/>
              <a:ext cx="0" cy="25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366080" y="2780280"/>
              <a:ext cx="0" cy="25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366080" y="3290760"/>
              <a:ext cx="0" cy="25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366080" y="3801240"/>
              <a:ext cx="0" cy="25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366080" y="4312080"/>
              <a:ext cx="0" cy="25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366080" y="4312080"/>
              <a:ext cx="1932840" cy="680400"/>
            </a:xfrm>
            <a:custGeom>
              <a:avLst/>
              <a:gdLst/>
              <a:ahLst/>
              <a:rect l="l" t="t" r="r" b="b"/>
              <a:pathLst>
                <a:path w="960" h="384">
                  <a:moveTo>
                    <a:pt x="0" y="288"/>
                  </a:moveTo>
                  <a:lnTo>
                    <a:pt x="0" y="384"/>
                  </a:lnTo>
                  <a:lnTo>
                    <a:pt x="960" y="384"/>
                  </a:lnTo>
                  <a:lnTo>
                    <a:pt x="960" y="48"/>
                  </a:lnTo>
                  <a:lnTo>
                    <a:pt x="96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900000" y="2133720"/>
            <a:ext cx="3382920" cy="2149200"/>
            <a:chOff x="900000" y="2133720"/>
            <a:chExt cx="3382920" cy="2149200"/>
          </a:xfrm>
        </p:grpSpPr>
        <p:sp>
          <p:nvSpPr>
            <p:cNvPr id="100" name=""/>
            <p:cNvSpPr/>
            <p:nvPr/>
          </p:nvSpPr>
          <p:spPr>
            <a:xfrm flipH="1">
              <a:off x="1368720" y="2897640"/>
              <a:ext cx="844560" cy="138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368720" y="4282920"/>
              <a:ext cx="168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 flipV="1">
              <a:off x="2213280" y="2897640"/>
              <a:ext cx="844560" cy="138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000" y="3948840"/>
              <a:ext cx="1172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354040" y="3948840"/>
              <a:ext cx="1125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306880" y="2252880"/>
              <a:ext cx="609480" cy="501480"/>
            </a:xfrm>
            <a:custGeom>
              <a:avLst/>
              <a:gdLst/>
              <a:ahLst/>
              <a:rect l="l" t="t" r="r" b="b"/>
              <a:pathLst>
                <a:path w="624" h="504">
                  <a:moveTo>
                    <a:pt x="624" y="72"/>
                  </a:moveTo>
                  <a:cubicBezTo>
                    <a:pt x="484" y="36"/>
                    <a:pt x="344" y="0"/>
                    <a:pt x="240" y="72"/>
                  </a:cubicBezTo>
                  <a:cubicBezTo>
                    <a:pt x="136" y="144"/>
                    <a:pt x="40" y="432"/>
                    <a:pt x="0" y="504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697040" y="2133720"/>
              <a:ext cx="515880" cy="620640"/>
            </a:xfrm>
            <a:custGeom>
              <a:avLst/>
              <a:gdLst/>
              <a:ahLst/>
              <a:rect l="l" t="t" r="r" b="b"/>
              <a:pathLst>
                <a:path w="528" h="624">
                  <a:moveTo>
                    <a:pt x="0" y="0"/>
                  </a:moveTo>
                  <a:cubicBezTo>
                    <a:pt x="76" y="20"/>
                    <a:pt x="152" y="40"/>
                    <a:pt x="240" y="144"/>
                  </a:cubicBezTo>
                  <a:cubicBezTo>
                    <a:pt x="328" y="248"/>
                    <a:pt x="488" y="544"/>
                    <a:pt x="528" y="624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213280" y="2993400"/>
              <a:ext cx="10080" cy="913320"/>
            </a:xfrm>
            <a:prstGeom prst="line">
              <a:avLst/>
            </a:prstGeom>
            <a:ln w="572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3245400" y="4139640"/>
              <a:ext cx="374760" cy="47520"/>
              <a:chOff x="3245400" y="4139640"/>
              <a:chExt cx="374760" cy="47520"/>
            </a:xfrm>
          </p:grpSpPr>
          <p:sp>
            <p:nvSpPr>
              <p:cNvPr id="109" name=""/>
              <p:cNvSpPr/>
              <p:nvPr/>
            </p:nvSpPr>
            <p:spPr>
              <a:xfrm>
                <a:off x="3245400" y="4139640"/>
                <a:ext cx="374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245400" y="4187160"/>
                <a:ext cx="374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245400" y="3709800"/>
              <a:ext cx="374760" cy="46800"/>
              <a:chOff x="3245400" y="3709800"/>
              <a:chExt cx="374760" cy="46800"/>
            </a:xfrm>
          </p:grpSpPr>
          <p:sp>
            <p:nvSpPr>
              <p:cNvPr id="112" name=""/>
              <p:cNvSpPr/>
              <p:nvPr/>
            </p:nvSpPr>
            <p:spPr>
              <a:xfrm>
                <a:off x="3245400" y="3709800"/>
                <a:ext cx="374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245400" y="3756600"/>
                <a:ext cx="374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 txBox="1"/>
            <p:nvPr/>
          </p:nvSpPr>
          <p:spPr>
            <a:xfrm>
              <a:off x="2448000" y="2515680"/>
              <a:ext cx="570240" cy="1756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Impact"/>
                </a:rPr>
                <a:t>1. Strategy</a:t>
              </a:r>
              <a:endPara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  <a:ea typeface="Impact"/>
              </a:endParaRPr>
            </a:p>
          </p:txBody>
        </p:sp>
        <p:sp>
          <p:nvSpPr>
            <p:cNvPr id="115" name=""/>
            <p:cNvSpPr txBox="1"/>
            <p:nvPr/>
          </p:nvSpPr>
          <p:spPr>
            <a:xfrm>
              <a:off x="2963520" y="3246840"/>
              <a:ext cx="528480" cy="17640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Impact"/>
                </a:rPr>
                <a:t>2. Change</a:t>
              </a:r>
              <a:endPara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  <a:ea typeface="Impact"/>
              </a:endParaRPr>
            </a:p>
          </p:txBody>
        </p:sp>
        <p:sp>
          <p:nvSpPr>
            <p:cNvPr id="116" name=""/>
            <p:cNvSpPr txBox="1"/>
            <p:nvPr/>
          </p:nvSpPr>
          <p:spPr>
            <a:xfrm>
              <a:off x="3620520" y="3757320"/>
              <a:ext cx="662400" cy="3463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Impact"/>
                </a:rPr>
                <a:t>3. Ethical 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Impact"/>
                </a:rPr>
                <a:t>Boundarie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5148360" y="1844640"/>
            <a:ext cx="2973240" cy="2933280"/>
            <a:chOff x="5148360" y="1844640"/>
            <a:chExt cx="2973240" cy="2933280"/>
          </a:xfrm>
        </p:grpSpPr>
        <p:grpSp>
          <p:nvGrpSpPr>
            <p:cNvPr id="118" name=""/>
            <p:cNvGrpSpPr/>
            <p:nvPr/>
          </p:nvGrpSpPr>
          <p:grpSpPr>
            <a:xfrm>
              <a:off x="5472720" y="2273040"/>
              <a:ext cx="182880" cy="591840"/>
              <a:chOff x="5472720" y="2273040"/>
              <a:chExt cx="182880" cy="591840"/>
            </a:xfrm>
          </p:grpSpPr>
          <p:sp>
            <p:nvSpPr>
              <p:cNvPr id="119" name=""/>
              <p:cNvSpPr/>
              <p:nvPr/>
            </p:nvSpPr>
            <p:spPr>
              <a:xfrm>
                <a:off x="5502960" y="2273040"/>
                <a:ext cx="122040" cy="131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564160" y="2404440"/>
                <a:ext cx="0" cy="26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5472720" y="2667600"/>
                <a:ext cx="91440" cy="19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 flipV="1">
                <a:off x="5564160" y="2667600"/>
                <a:ext cx="91440" cy="19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472720" y="2535840"/>
                <a:ext cx="182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5792760" y="2195640"/>
              <a:ext cx="183240" cy="592200"/>
              <a:chOff x="5792760" y="2195640"/>
              <a:chExt cx="183240" cy="592200"/>
            </a:xfrm>
          </p:grpSpPr>
          <p:sp>
            <p:nvSpPr>
              <p:cNvPr id="125" name=""/>
              <p:cNvSpPr/>
              <p:nvPr/>
            </p:nvSpPr>
            <p:spPr>
              <a:xfrm>
                <a:off x="5823000" y="2195640"/>
                <a:ext cx="122040" cy="131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884200" y="2327400"/>
                <a:ext cx="0" cy="26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V="1">
                <a:off x="5792760" y="2590560"/>
                <a:ext cx="91440" cy="19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 flipV="1">
                <a:off x="5884200" y="2590560"/>
                <a:ext cx="91440" cy="19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92760" y="2458800"/>
                <a:ext cx="183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5563440" y="2280240"/>
              <a:ext cx="274680" cy="761040"/>
              <a:chOff x="5563440" y="2280240"/>
              <a:chExt cx="274680" cy="761040"/>
            </a:xfrm>
          </p:grpSpPr>
          <p:sp>
            <p:nvSpPr>
              <p:cNvPr id="131" name=""/>
              <p:cNvSpPr/>
              <p:nvPr/>
            </p:nvSpPr>
            <p:spPr>
              <a:xfrm>
                <a:off x="5608800" y="2280240"/>
                <a:ext cx="183240" cy="169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700600" y="2449440"/>
                <a:ext cx="0" cy="338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V="1">
                <a:off x="5563440" y="2787480"/>
                <a:ext cx="137160" cy="25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flipV="1">
                <a:off x="5700240" y="2787480"/>
                <a:ext cx="137160" cy="25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563440" y="2618640"/>
                <a:ext cx="274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5414400" y="1844640"/>
              <a:ext cx="63792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Marlett"/>
                  <a:ea typeface="Marlett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 txBox="1"/>
            <p:nvPr/>
          </p:nvSpPr>
          <p:spPr>
            <a:xfrm>
              <a:off x="5391360" y="3051720"/>
              <a:ext cx="544680" cy="20556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Impact"/>
                </a:rPr>
                <a:t>Ethos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  <a:ea typeface="Impact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7701120" y="2606760"/>
              <a:ext cx="274680" cy="210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701120" y="3071880"/>
              <a:ext cx="320400" cy="12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 flipV="1">
              <a:off x="6908400" y="2737440"/>
              <a:ext cx="303480" cy="193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6984000" y="3060360"/>
              <a:ext cx="227880" cy="193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5805360" y="3763440"/>
              <a:ext cx="183240" cy="591840"/>
              <a:chOff x="5805360" y="3763440"/>
              <a:chExt cx="183240" cy="591840"/>
            </a:xfrm>
          </p:grpSpPr>
          <p:sp>
            <p:nvSpPr>
              <p:cNvPr id="143" name=""/>
              <p:cNvSpPr/>
              <p:nvPr/>
            </p:nvSpPr>
            <p:spPr>
              <a:xfrm>
                <a:off x="5835600" y="3763440"/>
                <a:ext cx="122040" cy="131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896800" y="3894840"/>
                <a:ext cx="0" cy="26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V="1">
                <a:off x="5805360" y="4158000"/>
                <a:ext cx="91440" cy="19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H="1" flipV="1">
                <a:off x="5896800" y="4158000"/>
                <a:ext cx="91440" cy="19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805360" y="4026240"/>
                <a:ext cx="183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6126840" y="3637080"/>
              <a:ext cx="182160" cy="590760"/>
              <a:chOff x="6126840" y="3637080"/>
              <a:chExt cx="182160" cy="590760"/>
            </a:xfrm>
          </p:grpSpPr>
          <p:sp>
            <p:nvSpPr>
              <p:cNvPr id="149" name=""/>
              <p:cNvSpPr/>
              <p:nvPr/>
            </p:nvSpPr>
            <p:spPr>
              <a:xfrm>
                <a:off x="6157080" y="3637080"/>
                <a:ext cx="121320" cy="131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217920" y="3768480"/>
                <a:ext cx="0" cy="262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V="1">
                <a:off x="6126840" y="4030920"/>
                <a:ext cx="91080" cy="19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 flipV="1">
                <a:off x="6217560" y="4030920"/>
                <a:ext cx="91080" cy="19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126840" y="3899520"/>
                <a:ext cx="182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5922360" y="3701880"/>
              <a:ext cx="275040" cy="761040"/>
              <a:chOff x="5922360" y="3701880"/>
              <a:chExt cx="275040" cy="761040"/>
            </a:xfrm>
          </p:grpSpPr>
          <p:sp>
            <p:nvSpPr>
              <p:cNvPr id="155" name=""/>
              <p:cNvSpPr/>
              <p:nvPr/>
            </p:nvSpPr>
            <p:spPr>
              <a:xfrm>
                <a:off x="5967720" y="3701880"/>
                <a:ext cx="183240" cy="169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059880" y="3871080"/>
                <a:ext cx="0" cy="338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V="1">
                <a:off x="5922360" y="4209120"/>
                <a:ext cx="137520" cy="25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 flipV="1">
                <a:off x="6059880" y="4209120"/>
                <a:ext cx="137520" cy="25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922360" y="4040280"/>
                <a:ext cx="275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6309000" y="4101840"/>
              <a:ext cx="323280" cy="84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632280" y="4035240"/>
              <a:ext cx="182880" cy="38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355440" y="4228200"/>
              <a:ext cx="627480" cy="294480"/>
            </a:xfrm>
            <a:custGeom>
              <a:avLst/>
              <a:gdLst/>
              <a:ahLst/>
              <a:rect l="l" t="t" r="r" b="b"/>
              <a:pathLst>
                <a:path w="655" h="334">
                  <a:moveTo>
                    <a:pt x="322" y="0"/>
                  </a:moveTo>
                  <a:cubicBezTo>
                    <a:pt x="368" y="40"/>
                    <a:pt x="655" y="197"/>
                    <a:pt x="601" y="253"/>
                  </a:cubicBezTo>
                  <a:cubicBezTo>
                    <a:pt x="547" y="309"/>
                    <a:pt x="125" y="317"/>
                    <a:pt x="0" y="334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391360" y="4284720"/>
              <a:ext cx="1739160" cy="237960"/>
            </a:xfrm>
            <a:custGeom>
              <a:avLst/>
              <a:gdLst/>
              <a:ahLst/>
              <a:rect l="l" t="t" r="r" b="b"/>
              <a:pathLst>
                <a:path w="1821" h="270">
                  <a:moveTo>
                    <a:pt x="1021" y="270"/>
                  </a:moveTo>
                  <a:cubicBezTo>
                    <a:pt x="875" y="253"/>
                    <a:pt x="0" y="211"/>
                    <a:pt x="133" y="166"/>
                  </a:cubicBezTo>
                  <a:cubicBezTo>
                    <a:pt x="266" y="121"/>
                    <a:pt x="1540" y="27"/>
                    <a:pt x="1821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 txBox="1"/>
            <p:nvPr/>
          </p:nvSpPr>
          <p:spPr>
            <a:xfrm>
              <a:off x="5770800" y="4539960"/>
              <a:ext cx="854640" cy="23796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Impact"/>
                </a:rPr>
                <a:t>Change</a:t>
              </a:r>
              <a:endPara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  <a:ea typeface="Impact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6301440" y="3636720"/>
              <a:ext cx="274680" cy="21060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 flipV="1">
              <a:off x="5508720" y="3767400"/>
              <a:ext cx="303480" cy="19368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5583960" y="4090680"/>
              <a:ext cx="227880" cy="19368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148360" y="2309400"/>
              <a:ext cx="2286720" cy="2012040"/>
            </a:xfrm>
            <a:custGeom>
              <a:avLst/>
              <a:gdLst/>
              <a:ahLst/>
              <a:rect l="l" t="t" r="r" b="b"/>
              <a:pathLst>
                <a:path w="3601" h="3169">
                  <a:moveTo>
                    <a:pt x="1370" y="390"/>
                  </a:moveTo>
                  <a:cubicBezTo>
                    <a:pt x="1438" y="374"/>
                    <a:pt x="1586" y="295"/>
                    <a:pt x="1771" y="296"/>
                  </a:cubicBezTo>
                  <a:cubicBezTo>
                    <a:pt x="1957" y="297"/>
                    <a:pt x="2230" y="307"/>
                    <a:pt x="2483" y="399"/>
                  </a:cubicBezTo>
                  <a:cubicBezTo>
                    <a:pt x="2735" y="492"/>
                    <a:pt x="3100" y="640"/>
                    <a:pt x="3283" y="849"/>
                  </a:cubicBezTo>
                  <a:cubicBezTo>
                    <a:pt x="3466" y="1058"/>
                    <a:pt x="3571" y="1377"/>
                    <a:pt x="3587" y="1646"/>
                  </a:cubicBezTo>
                  <a:cubicBezTo>
                    <a:pt x="3601" y="1917"/>
                    <a:pt x="3519" y="2245"/>
                    <a:pt x="3368" y="2466"/>
                  </a:cubicBezTo>
                  <a:cubicBezTo>
                    <a:pt x="3216" y="2688"/>
                    <a:pt x="2944" y="2859"/>
                    <a:pt x="2677" y="2976"/>
                  </a:cubicBezTo>
                  <a:cubicBezTo>
                    <a:pt x="2409" y="3092"/>
                    <a:pt x="2064" y="3169"/>
                    <a:pt x="1767" y="3168"/>
                  </a:cubicBezTo>
                  <a:cubicBezTo>
                    <a:pt x="1470" y="3167"/>
                    <a:pt x="1160" y="3131"/>
                    <a:pt x="892" y="2970"/>
                  </a:cubicBezTo>
                  <a:cubicBezTo>
                    <a:pt x="624" y="2809"/>
                    <a:pt x="292" y="2497"/>
                    <a:pt x="157" y="2205"/>
                  </a:cubicBezTo>
                  <a:cubicBezTo>
                    <a:pt x="22" y="1913"/>
                    <a:pt x="0" y="1510"/>
                    <a:pt x="82" y="1215"/>
                  </a:cubicBezTo>
                  <a:cubicBezTo>
                    <a:pt x="164" y="920"/>
                    <a:pt x="365" y="637"/>
                    <a:pt x="652" y="435"/>
                  </a:cubicBezTo>
                  <a:cubicBezTo>
                    <a:pt x="939" y="233"/>
                    <a:pt x="1564" y="91"/>
                    <a:pt x="1804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 txBox="1"/>
            <p:nvPr/>
          </p:nvSpPr>
          <p:spPr>
            <a:xfrm>
              <a:off x="7199640" y="3447720"/>
              <a:ext cx="921960" cy="23724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Impact"/>
                </a:rPr>
                <a:t>Strategy</a:t>
              </a:r>
              <a:endPara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  <a:ea typeface="Impact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7287120" y="2686320"/>
              <a:ext cx="275400" cy="760680"/>
              <a:chOff x="7287120" y="2686320"/>
              <a:chExt cx="275400" cy="760680"/>
            </a:xfrm>
          </p:grpSpPr>
          <p:sp>
            <p:nvSpPr>
              <p:cNvPr id="171" name=""/>
              <p:cNvSpPr/>
              <p:nvPr/>
            </p:nvSpPr>
            <p:spPr>
              <a:xfrm>
                <a:off x="7332840" y="2686320"/>
                <a:ext cx="183600" cy="169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424640" y="2855520"/>
                <a:ext cx="0" cy="33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V="1">
                <a:off x="7287120" y="3193560"/>
                <a:ext cx="137520" cy="25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H="1" flipV="1">
                <a:off x="7424640" y="3193560"/>
                <a:ext cx="137520" cy="25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287120" y="3024360"/>
                <a:ext cx="275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7518240" y="2607120"/>
              <a:ext cx="182880" cy="591840"/>
              <a:chOff x="7518240" y="2607120"/>
              <a:chExt cx="182880" cy="591840"/>
            </a:xfrm>
          </p:grpSpPr>
          <p:sp>
            <p:nvSpPr>
              <p:cNvPr id="177" name=""/>
              <p:cNvSpPr/>
              <p:nvPr/>
            </p:nvSpPr>
            <p:spPr>
              <a:xfrm>
                <a:off x="7548480" y="2607120"/>
                <a:ext cx="122040" cy="131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7609680" y="2738520"/>
                <a:ext cx="0" cy="26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V="1">
                <a:off x="7518240" y="3001680"/>
                <a:ext cx="91440" cy="19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 flipV="1">
                <a:off x="7609680" y="3001680"/>
                <a:ext cx="91440" cy="19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7518240" y="2869920"/>
                <a:ext cx="182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"/>
            <p:cNvSpPr/>
            <p:nvPr/>
          </p:nvSpPr>
          <p:spPr>
            <a:xfrm>
              <a:off x="7160760" y="2766600"/>
              <a:ext cx="63828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Marlett"/>
                  <a:ea typeface="Marlett"/>
                </a:rPr>
                <a:t>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7197480" y="2734200"/>
              <a:ext cx="183600" cy="592200"/>
              <a:chOff x="7197480" y="2734200"/>
              <a:chExt cx="183600" cy="592200"/>
            </a:xfrm>
          </p:grpSpPr>
          <p:sp>
            <p:nvSpPr>
              <p:cNvPr id="184" name=""/>
              <p:cNvSpPr/>
              <p:nvPr/>
            </p:nvSpPr>
            <p:spPr>
              <a:xfrm>
                <a:off x="7227720" y="2734200"/>
                <a:ext cx="122400" cy="131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7289280" y="2865600"/>
                <a:ext cx="0" cy="26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V="1">
                <a:off x="7197480" y="3129120"/>
                <a:ext cx="91800" cy="19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H="1" flipV="1">
                <a:off x="7288920" y="3129120"/>
                <a:ext cx="91800" cy="19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197480" y="2997360"/>
                <a:ext cx="183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95280" y="5454720"/>
            <a:ext cx="741672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troduction to Part II Extra Figur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From the conventional creation of strategy to ReCreating Strategy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7812000" y="5084640"/>
            <a:ext cx="1019160" cy="14763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8028000" y="2276640"/>
            <a:ext cx="431640" cy="5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6443640" y="621360"/>
            <a:ext cx="2376360" cy="30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7.3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 incremental development of conventional change management frameworks since 19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Comparative table developed by the author. For details of the individual authors of each approach described here see the biographical no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" descr=""/>
          <p:cNvPicPr/>
          <p:nvPr/>
        </p:nvPicPr>
        <p:blipFill>
          <a:blip r:embed="rId1"/>
          <a:stretch/>
        </p:blipFill>
        <p:spPr>
          <a:xfrm>
            <a:off x="7812000" y="5084640"/>
            <a:ext cx="1019160" cy="1476360"/>
          </a:xfrm>
          <a:prstGeom prst="rect">
            <a:avLst/>
          </a:prstGeom>
          <a:ln w="0">
            <a:noFill/>
          </a:ln>
        </p:spPr>
      </p:pic>
      <p:grpSp>
        <p:nvGrpSpPr>
          <p:cNvPr id="659" name=""/>
          <p:cNvGrpSpPr/>
          <p:nvPr/>
        </p:nvGrpSpPr>
        <p:grpSpPr>
          <a:xfrm>
            <a:off x="539640" y="404640"/>
            <a:ext cx="5303880" cy="5761080"/>
            <a:chOff x="539640" y="404640"/>
            <a:chExt cx="5303880" cy="5761080"/>
          </a:xfrm>
        </p:grpSpPr>
        <p:sp>
          <p:nvSpPr>
            <p:cNvPr id="660" name=""/>
            <p:cNvSpPr/>
            <p:nvPr/>
          </p:nvSpPr>
          <p:spPr>
            <a:xfrm>
              <a:off x="631080" y="770400"/>
              <a:ext cx="548640" cy="42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establis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sense of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urgenc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271160" y="770400"/>
              <a:ext cx="548640" cy="42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for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guidin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oali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911240" y="770400"/>
              <a:ext cx="548640" cy="42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reate 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vis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551320" y="770400"/>
              <a:ext cx="548640" cy="42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Times New Roman"/>
                </a:rPr>
                <a:t>comm-unicat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Times New Roman"/>
                </a:rPr>
                <a:t>vis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191400" y="770400"/>
              <a:ext cx="640080" cy="42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empow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others to ac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923280" y="770400"/>
              <a:ext cx="548640" cy="42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Times New Roman"/>
                </a:rPr>
                <a:t>plan sh-ort term wi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563360" y="770400"/>
              <a:ext cx="548640" cy="42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Times New Roman"/>
                </a:rPr>
                <a:t>consolid-at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203440" y="770400"/>
              <a:ext cx="640080" cy="42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Times New Roman"/>
                </a:rPr>
                <a:t>institution-alize the new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911240" y="770400"/>
              <a:ext cx="0" cy="53038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471920" y="770400"/>
              <a:ext cx="0" cy="53038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13960" y="5708520"/>
              <a:ext cx="1097280" cy="4572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FREEZ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642760" y="5708520"/>
              <a:ext cx="1097280" cy="4572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MOV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471920" y="5708520"/>
              <a:ext cx="1097280" cy="4572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FREEZ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911240" y="5891400"/>
              <a:ext cx="73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740040" y="5891400"/>
              <a:ext cx="73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179720" y="1011600"/>
              <a:ext cx="9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819800" y="1011600"/>
              <a:ext cx="9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459880" y="1011600"/>
              <a:ext cx="9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099960" y="1011600"/>
              <a:ext cx="9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831480" y="1011600"/>
              <a:ext cx="9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71920" y="1011600"/>
              <a:ext cx="9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112000" y="1011600"/>
              <a:ext cx="9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31080" y="1776240"/>
              <a:ext cx="914400" cy="365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recognize need for revitaliza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911240" y="1776240"/>
              <a:ext cx="640080" cy="365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reate a new vis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825640" y="1593360"/>
              <a:ext cx="731520" cy="365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mobilize commitmen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648600" y="1959120"/>
              <a:ext cx="640080" cy="274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transi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471920" y="1684800"/>
              <a:ext cx="1005840" cy="54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institutionalizing change: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- social architectu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- new beginning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545480" y="1959120"/>
              <a:ext cx="36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551320" y="2050560"/>
              <a:ext cx="109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551320" y="1867680"/>
              <a:ext cx="274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289040" y="2142000"/>
              <a:ext cx="18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31080" y="2690640"/>
              <a:ext cx="640080" cy="54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structured learnin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laborato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362600" y="2690640"/>
              <a:ext cx="640080" cy="54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team and inter-tea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buildin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271160" y="2964960"/>
              <a:ext cx="9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094120" y="2782080"/>
              <a:ext cx="1005840" cy="365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goal settin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for the organiza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465720" y="2782080"/>
              <a:ext cx="914400" cy="365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goal implementa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746240" y="2690640"/>
              <a:ext cx="914400" cy="54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Times New Roman"/>
                </a:rPr>
                <a:t>Stabilization of changes/monitor-ing progres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002680" y="2964960"/>
              <a:ext cx="9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099960" y="2964960"/>
              <a:ext cx="36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380480" y="2964960"/>
              <a:ext cx="36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31080" y="3696480"/>
              <a:ext cx="731520" cy="54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assess need for change/ contact change agen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911240" y="3787920"/>
              <a:ext cx="548640" cy="365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identify goal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31080" y="4702680"/>
              <a:ext cx="54864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develop need for chang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642760" y="3696480"/>
              <a:ext cx="1005840" cy="54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- begin diagnosi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- present finding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- develop plan for chang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831480" y="3696480"/>
              <a:ext cx="548640" cy="54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institut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planne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hang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654800" y="3696480"/>
              <a:ext cx="822960" cy="54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evaluate intervention against goal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71160" y="4702680"/>
              <a:ext cx="6400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Times New Roman"/>
                </a:rPr>
                <a:t>establish change re-lationship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825640" y="4702680"/>
              <a:ext cx="731520" cy="365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work toward chang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471920" y="4702680"/>
              <a:ext cx="548640" cy="365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stabilize chang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112000" y="4702680"/>
              <a:ext cx="7315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achieve terminal relationship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020560" y="4885560"/>
              <a:ext cx="9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179720" y="4885560"/>
              <a:ext cx="9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3970800"/>
              <a:ext cx="18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380480" y="3970800"/>
              <a:ext cx="274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648600" y="3970800"/>
              <a:ext cx="18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362600" y="3970800"/>
              <a:ext cx="54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911240" y="488556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557160" y="488556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39640" y="5434200"/>
              <a:ext cx="1005840" cy="27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900" spc="-1" strike="noStrike">
                  <a:solidFill>
                    <a:srgbClr val="000000"/>
                  </a:solidFill>
                  <a:latin typeface="Times New Roman"/>
                </a:rPr>
                <a:t>Lewin (1951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39640" y="4428360"/>
              <a:ext cx="1737360" cy="27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900" spc="-1" strike="noStrike">
                  <a:solidFill>
                    <a:srgbClr val="000000"/>
                  </a:solidFill>
                  <a:latin typeface="Times New Roman"/>
                </a:rPr>
                <a:t>Lippitt, Watson &amp; Westley (1958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39640" y="3422160"/>
              <a:ext cx="1920240" cy="27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Planned change model (1965-1972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39640" y="2416320"/>
              <a:ext cx="1371600" cy="27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Blake &amp; Mouton (1964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39640" y="1410480"/>
              <a:ext cx="1371600" cy="27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900" spc="-1" strike="noStrike">
                  <a:solidFill>
                    <a:srgbClr val="000000"/>
                  </a:solidFill>
                  <a:latin typeface="Times New Roman"/>
                </a:rPr>
                <a:t>Tichy &amp; Devanna(1990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39640" y="404640"/>
              <a:ext cx="1005840" cy="27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900" spc="-1" strike="noStrike">
                  <a:solidFill>
                    <a:srgbClr val="000000"/>
                  </a:solidFill>
                  <a:latin typeface="Times New Roman"/>
                </a:rPr>
                <a:t>Kotter (1995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557160" y="177624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395280" y="5319360"/>
            <a:ext cx="7416720" cy="14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igure 7.4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Kleisthenes’ reconfiguration of Ath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urce: ‘Toward Demokratia – Myth and the Management of Change in Ancient Athens’, by S. Cummings and J. Brocklesby,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Journal of Organizational Change Managemen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(vol. 10/1, 1997), MCB University Press, © S. Cummings. Note – evidence suggests that 20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deme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combined to constitute the Leontis tribe, however only the whereabouts of 15 of these have been ascertain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7" name="" descr=""/>
          <p:cNvPicPr/>
          <p:nvPr/>
        </p:nvPicPr>
        <p:blipFill>
          <a:blip r:embed="rId1"/>
          <a:stretch/>
        </p:blipFill>
        <p:spPr>
          <a:xfrm>
            <a:off x="7812000" y="5084640"/>
            <a:ext cx="1019160" cy="1476360"/>
          </a:xfrm>
          <a:prstGeom prst="rect">
            <a:avLst/>
          </a:prstGeom>
          <a:ln w="0">
            <a:noFill/>
          </a:ln>
        </p:spPr>
      </p:pic>
      <p:pic>
        <p:nvPicPr>
          <p:cNvPr id="728" name="" descr=""/>
          <p:cNvPicPr/>
          <p:nvPr/>
        </p:nvPicPr>
        <p:blipFill>
          <a:blip r:embed="rId2"/>
          <a:stretch/>
        </p:blipFill>
        <p:spPr>
          <a:xfrm>
            <a:off x="2340000" y="1125360"/>
            <a:ext cx="4241880" cy="34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9" name=""/>
          <p:cNvGrpSpPr/>
          <p:nvPr/>
        </p:nvGrpSpPr>
        <p:grpSpPr>
          <a:xfrm>
            <a:off x="2771640" y="1628640"/>
            <a:ext cx="4105440" cy="3455640"/>
            <a:chOff x="2771640" y="1628640"/>
            <a:chExt cx="4105440" cy="3455640"/>
          </a:xfrm>
        </p:grpSpPr>
        <p:sp>
          <p:nvSpPr>
            <p:cNvPr id="730" name=""/>
            <p:cNvSpPr/>
            <p:nvPr/>
          </p:nvSpPr>
          <p:spPr>
            <a:xfrm>
              <a:off x="2905200" y="1918440"/>
              <a:ext cx="2947680" cy="3044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 txBox="1"/>
            <p:nvPr/>
          </p:nvSpPr>
          <p:spPr>
            <a:xfrm>
              <a:off x="3842640" y="3224160"/>
              <a:ext cx="1186560" cy="452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Times New Roman"/>
                </a:rPr>
                <a:t>change requires</a:t>
              </a:r>
              <a:endParaRPr b="1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Times New Roman"/>
                </a:rPr>
                <a:t>continuity</a:t>
              </a:r>
              <a:endParaRPr b="1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732" name=""/>
            <p:cNvSpPr txBox="1"/>
            <p:nvPr/>
          </p:nvSpPr>
          <p:spPr>
            <a:xfrm>
              <a:off x="3039840" y="1628640"/>
              <a:ext cx="1046160" cy="905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Times New Roman"/>
                </a:rPr>
                <a:t>vision bringing</a:t>
              </a:r>
              <a:endParaRPr b="0" lang="en-US" sz="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Times New Roman"/>
                </a:rPr>
                <a:t>past into the</a:t>
              </a:r>
              <a:endParaRPr b="0" lang="en-US" sz="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Times New Roman"/>
                </a:rPr>
                <a:t>present toward</a:t>
              </a:r>
              <a:endParaRPr b="0" lang="en-US" sz="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Times New Roman"/>
                </a:rPr>
                <a:t>the future</a:t>
              </a:r>
              <a:endParaRPr b="0" lang="en-US" sz="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733" name=""/>
            <p:cNvSpPr txBox="1"/>
            <p:nvPr/>
          </p:nvSpPr>
          <p:spPr>
            <a:xfrm>
              <a:off x="5719320" y="2788920"/>
              <a:ext cx="1157760" cy="678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Times New Roman"/>
                </a:rPr>
                <a:t>seeing future, </a:t>
              </a:r>
              <a:endParaRPr b="0" lang="en-US" sz="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Times New Roman"/>
                </a:rPr>
                <a:t>present and past </a:t>
              </a:r>
              <a:endParaRPr b="0" lang="en-US" sz="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Times New Roman"/>
                </a:rPr>
                <a:t>as interconnected</a:t>
              </a:r>
              <a:endParaRPr b="0" lang="en-US" sz="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734" name=""/>
            <p:cNvSpPr txBox="1"/>
            <p:nvPr/>
          </p:nvSpPr>
          <p:spPr>
            <a:xfrm>
              <a:off x="2771640" y="4238280"/>
              <a:ext cx="1269360" cy="84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Times New Roman"/>
                </a:rPr>
                <a:t>integrating with </a:t>
              </a:r>
              <a:endPara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Times New Roman"/>
                </a:rPr>
                <a:t>material and </a:t>
              </a:r>
              <a:endPara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Times New Roman"/>
                </a:rPr>
                <a:t>'mythic' dimensions</a:t>
              </a:r>
              <a:endPara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575520" y="2063880"/>
              <a:ext cx="857520" cy="138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 flipV="1">
              <a:off x="4433400" y="3223800"/>
              <a:ext cx="1419480" cy="22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>
              <a:off x="3575520" y="3444840"/>
              <a:ext cx="857520" cy="122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8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395280" y="5547960"/>
            <a:ext cx="7416720" cy="9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hapter 7 Extra Figure: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Generating Change - An alternative framework for considering change with continu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" descr=""/>
          <p:cNvPicPr/>
          <p:nvPr/>
        </p:nvPicPr>
        <p:blipFill>
          <a:blip r:embed="rId1"/>
          <a:stretch/>
        </p:blipFill>
        <p:spPr>
          <a:xfrm>
            <a:off x="7812000" y="5084640"/>
            <a:ext cx="101916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95280" y="5452920"/>
            <a:ext cx="741672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igure 7.5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An organization diagrammed as knitting; an organization diagrammed as a tumbleweed/dodgems/raygun. Sources: see biographical notes for detai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" descr=""/>
          <p:cNvPicPr/>
          <p:nvPr/>
        </p:nvPicPr>
        <p:blipFill>
          <a:blip r:embed="rId1"/>
          <a:stretch/>
        </p:blipFill>
        <p:spPr>
          <a:xfrm>
            <a:off x="7812000" y="5084640"/>
            <a:ext cx="1019160" cy="1476360"/>
          </a:xfrm>
          <a:prstGeom prst="rect">
            <a:avLst/>
          </a:prstGeom>
          <a:ln w="0">
            <a:noFill/>
          </a:ln>
        </p:spPr>
      </p:pic>
      <p:pic>
        <p:nvPicPr>
          <p:cNvPr id="744" name="" descr=""/>
          <p:cNvPicPr/>
          <p:nvPr/>
        </p:nvPicPr>
        <p:blipFill>
          <a:blip r:embed="rId2"/>
          <a:stretch/>
        </p:blipFill>
        <p:spPr>
          <a:xfrm>
            <a:off x="1187280" y="836640"/>
            <a:ext cx="2814840" cy="4248000"/>
          </a:xfrm>
          <a:prstGeom prst="rect">
            <a:avLst/>
          </a:prstGeom>
          <a:ln w="0">
            <a:noFill/>
          </a:ln>
        </p:spPr>
      </p:pic>
      <p:pic>
        <p:nvPicPr>
          <p:cNvPr id="745" name="" descr=""/>
          <p:cNvPicPr/>
          <p:nvPr/>
        </p:nvPicPr>
        <p:blipFill>
          <a:blip r:embed="rId3"/>
          <a:stretch/>
        </p:blipFill>
        <p:spPr>
          <a:xfrm>
            <a:off x="4500720" y="1484280"/>
            <a:ext cx="392400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95280" y="5454720"/>
            <a:ext cx="741672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hapter 7 Extra Figure: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tt’s drawing of Folkdevils from case box 7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8" name="" descr=""/>
          <p:cNvPicPr/>
          <p:nvPr/>
        </p:nvPicPr>
        <p:blipFill>
          <a:blip r:embed="rId1"/>
          <a:stretch/>
        </p:blipFill>
        <p:spPr>
          <a:xfrm>
            <a:off x="7812000" y="5084640"/>
            <a:ext cx="1019160" cy="1476360"/>
          </a:xfrm>
          <a:prstGeom prst="rect">
            <a:avLst/>
          </a:prstGeom>
          <a:ln w="0">
            <a:noFill/>
          </a:ln>
        </p:spPr>
      </p:pic>
      <p:pic>
        <p:nvPicPr>
          <p:cNvPr id="749" name="" descr=""/>
          <p:cNvPicPr/>
          <p:nvPr/>
        </p:nvPicPr>
        <p:blipFill>
          <a:blip r:embed="rId2"/>
          <a:stretch/>
        </p:blipFill>
        <p:spPr>
          <a:xfrm>
            <a:off x="1979640" y="1052640"/>
            <a:ext cx="50925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"/>
          <p:cNvGrpSpPr/>
          <p:nvPr/>
        </p:nvGrpSpPr>
        <p:grpSpPr>
          <a:xfrm>
            <a:off x="1692360" y="765000"/>
            <a:ext cx="5600160" cy="4457880"/>
            <a:chOff x="1692360" y="765000"/>
            <a:chExt cx="5600160" cy="4457880"/>
          </a:xfrm>
        </p:grpSpPr>
        <p:sp>
          <p:nvSpPr>
            <p:cNvPr id="751" name=""/>
            <p:cNvSpPr/>
            <p:nvPr/>
          </p:nvSpPr>
          <p:spPr>
            <a:xfrm>
              <a:off x="4206600" y="2479680"/>
              <a:ext cx="571320" cy="22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749400" y="2365200"/>
              <a:ext cx="1714320" cy="102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 flipH="1">
              <a:off x="4092480" y="3394080"/>
              <a:ext cx="34272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778280" y="3394080"/>
              <a:ext cx="34272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 rot="16200000">
              <a:off x="3349440" y="2764800"/>
              <a:ext cx="571320" cy="228240"/>
            </a:xfrm>
            <a:custGeom>
              <a:avLst/>
              <a:gdLst>
                <a:gd name="textAreaLeft" fmla="*/ 125640 w 571320"/>
                <a:gd name="textAreaRight" fmla="*/ 445680 w 571320"/>
                <a:gd name="textAreaTop" fmla="*/ 50040 h 228240"/>
                <a:gd name="textAreaBottom" fmla="*/ 178200 h 22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321080" y="17935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321080" y="1793520"/>
              <a:ext cx="34272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4892760" y="1793520"/>
              <a:ext cx="34272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863880" y="1450800"/>
              <a:ext cx="799920" cy="799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778280" y="1450800"/>
              <a:ext cx="799920" cy="799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121000" y="1793520"/>
              <a:ext cx="114120" cy="114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206600" y="1793520"/>
              <a:ext cx="114120" cy="114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806480" y="1107720"/>
              <a:ext cx="342720" cy="2857320"/>
            </a:xfrm>
            <a:prstGeom prst="parallelogram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920600" y="3965400"/>
              <a:ext cx="0" cy="102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 flipH="1">
              <a:off x="1806120" y="4994280"/>
              <a:ext cx="1141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920600" y="4994280"/>
              <a:ext cx="1141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63680" y="1679400"/>
              <a:ext cx="1142640" cy="9144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 flipV="1">
              <a:off x="2263680" y="3165120"/>
              <a:ext cx="1142640" cy="5713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 flipH="1">
              <a:off x="6378480" y="2479680"/>
              <a:ext cx="228240" cy="7999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149880" y="2822400"/>
              <a:ext cx="799920" cy="2282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 flipV="1">
              <a:off x="6149880" y="2707560"/>
              <a:ext cx="914400" cy="2286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721560" y="2479680"/>
              <a:ext cx="228240" cy="685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492600" y="2250720"/>
              <a:ext cx="342720" cy="342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949800" y="2479680"/>
              <a:ext cx="342720" cy="342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721560" y="2936880"/>
              <a:ext cx="342720" cy="342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264360" y="3051000"/>
              <a:ext cx="342720" cy="342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035400" y="2707920"/>
              <a:ext cx="342720" cy="342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>
              <a:off x="5578200" y="293688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>
              <a:off x="5578200" y="2479680"/>
              <a:ext cx="91440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 flipV="1">
              <a:off x="5577840" y="3165120"/>
              <a:ext cx="68580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206600" y="2365200"/>
              <a:ext cx="799920" cy="4572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strateg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892760" y="2593800"/>
              <a:ext cx="571320" cy="4572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&amp;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49400" y="2593800"/>
              <a:ext cx="799920" cy="5713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op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49400" y="2936880"/>
              <a:ext cx="1714320" cy="3427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ommunication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121000" y="4194000"/>
              <a:ext cx="7999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Government fundin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406680" y="4194000"/>
              <a:ext cx="6858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Private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fundin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692360" y="5222880"/>
              <a:ext cx="548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549680" y="2707920"/>
              <a:ext cx="3427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492280" y="2707920"/>
              <a:ext cx="799920" cy="228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marketin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692360" y="765000"/>
              <a:ext cx="2400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Projection of images of national identit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035080" y="3508200"/>
              <a:ext cx="4686120" cy="1485720"/>
            </a:xfrm>
            <a:custGeom>
              <a:avLst/>
              <a:gdLst/>
              <a:ahLst/>
              <a:rect l="l" t="t" r="r" b="b"/>
              <a:pathLst>
                <a:path w="7380" h="2340">
                  <a:moveTo>
                    <a:pt x="0" y="720"/>
                  </a:moveTo>
                  <a:lnTo>
                    <a:pt x="0" y="2340"/>
                  </a:lnTo>
                  <a:lnTo>
                    <a:pt x="7380" y="2340"/>
                  </a:lnTo>
                  <a:lnTo>
                    <a:pt x="738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321080" y="1107720"/>
              <a:ext cx="799920" cy="228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exhibit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 flipV="1">
              <a:off x="3978360" y="4308120"/>
              <a:ext cx="22824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5006880" y="4422600"/>
              <a:ext cx="22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321080" y="3279600"/>
              <a:ext cx="571320" cy="2282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financ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6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395280" y="5727600"/>
            <a:ext cx="741672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hapter 7 Extra Figure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organigraph of a national muse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8" name="Cummings_Images%20of%20Strategy_size2" descr=""/>
          <p:cNvPicPr/>
          <p:nvPr/>
        </p:nvPicPr>
        <p:blipFill>
          <a:blip r:embed="rId1"/>
          <a:stretch/>
        </p:blipFill>
        <p:spPr>
          <a:xfrm>
            <a:off x="7667640" y="4797360"/>
            <a:ext cx="114444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395280" y="5591160"/>
            <a:ext cx="74167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 III Extra Figure: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dividualized maps of Ottakar’s stores – contrast these with figure 2.5 (from case 3, pg. 3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1" name="" descr=""/>
          <p:cNvPicPr/>
          <p:nvPr/>
        </p:nvPicPr>
        <p:blipFill>
          <a:blip r:embed="rId1"/>
          <a:stretch/>
        </p:blipFill>
        <p:spPr>
          <a:xfrm>
            <a:off x="7812000" y="5084640"/>
            <a:ext cx="1019160" cy="1476360"/>
          </a:xfrm>
          <a:prstGeom prst="rect">
            <a:avLst/>
          </a:prstGeom>
          <a:ln w="0">
            <a:noFill/>
          </a:ln>
        </p:spPr>
      </p:pic>
      <p:pic>
        <p:nvPicPr>
          <p:cNvPr id="802" name="" descr=""/>
          <p:cNvPicPr/>
          <p:nvPr/>
        </p:nvPicPr>
        <p:blipFill>
          <a:blip r:embed="rId2"/>
          <a:stretch/>
        </p:blipFill>
        <p:spPr>
          <a:xfrm>
            <a:off x="611280" y="1197000"/>
            <a:ext cx="3744720" cy="3093840"/>
          </a:xfrm>
          <a:prstGeom prst="rect">
            <a:avLst/>
          </a:prstGeom>
          <a:ln w="0">
            <a:noFill/>
          </a:ln>
        </p:spPr>
      </p:pic>
      <p:pic>
        <p:nvPicPr>
          <p:cNvPr id="803" name="" descr=""/>
          <p:cNvPicPr/>
          <p:nvPr/>
        </p:nvPicPr>
        <p:blipFill>
          <a:blip r:embed="rId3"/>
          <a:stretch/>
        </p:blipFill>
        <p:spPr>
          <a:xfrm>
            <a:off x="4932360" y="1268280"/>
            <a:ext cx="3313080" cy="30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5280" y="5180400"/>
            <a:ext cx="7416720" cy="16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5.1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leading textbook’s model of ethical decision-ma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: Charles W.L. Hill and Gareth R. Jones, ‘Strategic Management: An Integrated Approach’, Fourth Edition. Copyright © by Houghton Mifflin Company. Reprinted with per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7812000" y="5084640"/>
            <a:ext cx="1019160" cy="14763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6107040" y="2322360"/>
            <a:ext cx="1050840" cy="14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705200" y="2292480"/>
            <a:ext cx="1051200" cy="14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01920" y="2292480"/>
            <a:ext cx="1052640" cy="14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900080" y="2292480"/>
            <a:ext cx="1052640" cy="14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957320" y="2254320"/>
            <a:ext cx="1001880" cy="16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valuate decision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from ethical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tandpoin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dentify affect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takeholder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re rights o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takehold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violated?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349800" y="2266920"/>
            <a:ext cx="102204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valuate decision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from ethical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tandpoint in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he contex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f moral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rincipl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788000" y="2276640"/>
            <a:ext cx="898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stablish mor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nten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54560" y="2276640"/>
            <a:ext cx="978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ngage in ethic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behaviou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952720" y="2679840"/>
            <a:ext cx="525600" cy="276120"/>
          </a:xfrm>
          <a:prstGeom prst="rightArrow">
            <a:avLst>
              <a:gd name="adj1" fmla="val 50000"/>
              <a:gd name="adj2" fmla="val 47588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354560" y="2679840"/>
            <a:ext cx="525240" cy="276120"/>
          </a:xfrm>
          <a:prstGeom prst="rightArrow">
            <a:avLst>
              <a:gd name="adj1" fmla="val 50000"/>
              <a:gd name="adj2" fmla="val 47555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756400" y="2679840"/>
            <a:ext cx="525240" cy="276120"/>
          </a:xfrm>
          <a:prstGeom prst="rightArrow">
            <a:avLst>
              <a:gd name="adj1" fmla="val 50000"/>
              <a:gd name="adj2" fmla="val 47555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6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20" y="592200"/>
            <a:ext cx="10656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15840" tIns="46800" bIns="0" anchor="ctr">
            <a:spAutoFit/>
          </a:bodyPr>
          <a:p>
            <a:pPr>
              <a:tabLst>
                <a:tab algn="l" pos="0"/>
                <a:tab algn="l" pos="52056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2056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692360" y="981720"/>
            <a:ext cx="5688000" cy="6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584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ciency</a:t>
            </a:r>
            <a:r>
              <a:rPr b="1" i="1" lang="en-A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A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</a:t>
            </a:r>
            <a:r>
              <a:rPr b="1" i="1" lang="en-A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A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A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A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2056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2056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692360" y="1263240"/>
            <a:ext cx="597672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Unimaginative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vity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dc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Dishonesty 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Integrity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*Pett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Flippancy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Respect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*Duty-bo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Blasé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Commitment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*Int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*Slap-dash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Professionalism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*Inflex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*Individualism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Teamwork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Group-thi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Boring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Humour 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*Overfamiliar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* = tend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484360" y="2878920"/>
            <a:ext cx="5015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95280" y="5713560"/>
            <a:ext cx="741672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pter 5 Extra Figure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Aristotle’s thinking was applied to “Virtue Finance” to develop a clearer understanding of its particular eth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7812000" y="5084640"/>
            <a:ext cx="101916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95280" y="5316480"/>
            <a:ext cx="7416720" cy="14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igure 5.2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he circle of corporate eth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urce: after A. Campbell and S. Yeung’s ‘Ashridge Mission Model’ (‘Ashridge Mission Model’ used with permission of the author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7812000" y="5084640"/>
            <a:ext cx="1019160" cy="1476360"/>
          </a:xfrm>
          <a:prstGeom prst="rect">
            <a:avLst/>
          </a:prstGeom>
          <a:ln w="0">
            <a:noFill/>
          </a:ln>
        </p:spPr>
      </p:pic>
      <p:grpSp>
        <p:nvGrpSpPr>
          <p:cNvPr id="218" name=""/>
          <p:cNvGrpSpPr/>
          <p:nvPr/>
        </p:nvGrpSpPr>
        <p:grpSpPr>
          <a:xfrm>
            <a:off x="2411280" y="1268280"/>
            <a:ext cx="4479840" cy="3668760"/>
            <a:chOff x="2411280" y="1268280"/>
            <a:chExt cx="4479840" cy="3668760"/>
          </a:xfrm>
        </p:grpSpPr>
        <p:sp>
          <p:nvSpPr>
            <p:cNvPr id="219" name=""/>
            <p:cNvSpPr/>
            <p:nvPr/>
          </p:nvSpPr>
          <p:spPr>
            <a:xfrm>
              <a:off x="2776680" y="1371600"/>
              <a:ext cx="3748680" cy="3565440"/>
            </a:xfrm>
            <a:prstGeom prst="ellipse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148280" y="2742840"/>
              <a:ext cx="914040" cy="914040"/>
            </a:xfrm>
            <a:prstGeom prst="ellipse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 txBox="1"/>
            <p:nvPr/>
          </p:nvSpPr>
          <p:spPr>
            <a:xfrm rot="5400000">
              <a:off x="4132080" y="3124440"/>
              <a:ext cx="914040" cy="150840"/>
            </a:xfrm>
            <a:prstGeom prst="rect">
              <a:avLst/>
            </a:prstGeom>
          </p:spPr>
          <p:txBody>
            <a:bodyPr wrap="none" lIns="90000" rIns="90000" tIns="46800" bIns="46800" anchor="ctr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urier New"/>
                </a:rPr>
                <a:t>ethos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urier New"/>
                <a:ea typeface="Courier New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605480" y="2194560"/>
              <a:ext cx="0" cy="20109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 txBox="1"/>
            <p:nvPr/>
          </p:nvSpPr>
          <p:spPr>
            <a:xfrm>
              <a:off x="2959560" y="1268280"/>
              <a:ext cx="1164960" cy="28620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Impact"/>
                </a:rPr>
                <a:t>community</a:t>
              </a:r>
              <a:endPara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  <a:ea typeface="Impact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325320" y="2377080"/>
              <a:ext cx="1005480" cy="2010960"/>
            </a:xfrm>
            <a:custGeom>
              <a:avLst/>
              <a:gdLst>
                <a:gd name="textAreaLeft" fmla="*/ 134640 w 1005480"/>
                <a:gd name="textAreaRight" fmla="*/ 870840 w 1005480"/>
                <a:gd name="textAreaTop" fmla="*/ 351720 h 2010960"/>
                <a:gd name="textAreaBottom" fmla="*/ 1458000 h 201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 flipV="1">
              <a:off x="4970520" y="2152080"/>
              <a:ext cx="1005480" cy="2010960"/>
            </a:xfrm>
            <a:custGeom>
              <a:avLst/>
              <a:gdLst>
                <a:gd name="textAreaLeft" fmla="*/ 134640 w 1005480"/>
                <a:gd name="textAreaRight" fmla="*/ 870840 w 1005480"/>
                <a:gd name="textAreaTop" fmla="*/ 352080 h 2010960"/>
                <a:gd name="textAreaBottom" fmla="*/ 1458360 h 201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239720" y="1600920"/>
              <a:ext cx="914040" cy="45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200" spc="-1" strike="noStrike">
                  <a:solidFill>
                    <a:srgbClr val="000000"/>
                  </a:solidFill>
                  <a:latin typeface="Tahoma"/>
                </a:rPr>
                <a:t>Telos</a:t>
              </a:r>
              <a:r>
                <a:rPr b="1" lang="en-GB" sz="1200" spc="-1" strike="noStrike">
                  <a:solidFill>
                    <a:srgbClr val="000000"/>
                  </a:solidFill>
                  <a:latin typeface="Tahoma"/>
                </a:rPr>
                <a:t> or purpo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239720" y="4205520"/>
              <a:ext cx="82260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Ac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411280" y="3022920"/>
              <a:ext cx="82260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Valu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977080" y="3022920"/>
              <a:ext cx="914040" cy="3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Strateg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599640" y="3234960"/>
              <a:ext cx="21027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1403280" y="1916280"/>
            <a:ext cx="5616720" cy="2519280"/>
            <a:chOff x="1403280" y="1916280"/>
            <a:chExt cx="5616720" cy="2519280"/>
          </a:xfrm>
        </p:grpSpPr>
        <p:sp>
          <p:nvSpPr>
            <p:cNvPr id="232" name=""/>
            <p:cNvSpPr/>
            <p:nvPr/>
          </p:nvSpPr>
          <p:spPr>
            <a:xfrm>
              <a:off x="4859640" y="1916280"/>
              <a:ext cx="449640" cy="54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Impact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563280" y="2064240"/>
              <a:ext cx="459720" cy="54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Impact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563280" y="3546360"/>
              <a:ext cx="449640" cy="54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Impact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994640" y="2064240"/>
              <a:ext cx="202536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Impact"/>
                </a:rPr>
                <a:t>Rules/codes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547280" y="2064240"/>
              <a:ext cx="2280240" cy="74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Impact"/>
                </a:rPr>
                <a:t>How do we know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Impact"/>
                </a:rPr>
                <a:t>ourselves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403280" y="3694680"/>
              <a:ext cx="3043440" cy="74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Impact"/>
                </a:rPr>
                <a:t>How are w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Impact"/>
                </a:rPr>
                <a:t>different/memorable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5003640" y="2360880"/>
              <a:ext cx="0" cy="88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3995640" y="236088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995640" y="2360880"/>
              <a:ext cx="0" cy="148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995640" y="3842640"/>
              <a:ext cx="144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5435640" y="2805120"/>
              <a:ext cx="0" cy="1037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859640" y="3101760"/>
              <a:ext cx="216000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Impact"/>
                </a:rPr>
                <a:t>Material core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427640" y="2657160"/>
              <a:ext cx="576000" cy="59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283640" y="3250080"/>
              <a:ext cx="72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859640" y="3101760"/>
              <a:ext cx="411840" cy="54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Impact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95280" y="5591160"/>
            <a:ext cx="74167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hapter 5 Extra Figure: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representation of Delueze’s Four Folds of Subjectification (pg. 2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7812000" y="5084640"/>
            <a:ext cx="101916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3780000" y="1920960"/>
            <a:ext cx="0" cy="1638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780000" y="2205000"/>
            <a:ext cx="2062080" cy="135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016600" y="2347920"/>
            <a:ext cx="687240" cy="5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992240" y="2703600"/>
            <a:ext cx="1236600" cy="42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Ani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192560" y="3986280"/>
            <a:ext cx="1236600" cy="4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Ori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954160" y="2276640"/>
            <a:ext cx="687600" cy="4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016600" y="3559320"/>
            <a:ext cx="687240" cy="4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916440" y="3559320"/>
            <a:ext cx="687240" cy="4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954160" y="2989440"/>
            <a:ext cx="687600" cy="4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780000" y="3559320"/>
            <a:ext cx="2336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816440" y="2200320"/>
            <a:ext cx="1800" cy="1363680"/>
          </a:xfrm>
          <a:custGeom>
            <a:avLst/>
            <a:gdLst/>
            <a:ahLst/>
            <a:rect l="l" t="t" r="r" b="b"/>
            <a:pathLst>
              <a:path w="1" h="1380">
                <a:moveTo>
                  <a:pt x="0" y="0"/>
                </a:moveTo>
                <a:lnTo>
                  <a:pt x="0" y="1380"/>
                </a:lnTo>
              </a:path>
            </a:pathLst>
          </a:cu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784680" y="2882880"/>
            <a:ext cx="2062080" cy="360"/>
          </a:xfrm>
          <a:custGeom>
            <a:avLst/>
            <a:gdLst/>
            <a:ahLst/>
            <a:rect l="l" t="t" r="r" b="b"/>
            <a:pathLst>
              <a:path w="2160" h="1">
                <a:moveTo>
                  <a:pt x="0" y="0"/>
                </a:moveTo>
                <a:lnTo>
                  <a:pt x="216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95280" y="5181840"/>
            <a:ext cx="7416720" cy="16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pter 6 Extra Figure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ing away from “what a good strategy is?” to looking at “what a good strategy does?” – a good strategy can come from any source so long as this source provides orientation and ani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7812000" y="5084640"/>
            <a:ext cx="101916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95280" y="5316480"/>
            <a:ext cx="7416720" cy="14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igure 6.1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Ansoff’s development of strateg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urce: H.I. Ansoff, ‘figure 1’, from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Business Strateg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Penguin, Harmondsworth, 1969). Levels superimpo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7812000" y="5084640"/>
            <a:ext cx="1019160" cy="147636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2124000" y="1916280"/>
            <a:ext cx="4737240" cy="218412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3132000" y="3986280"/>
            <a:ext cx="26514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3132000" y="1700280"/>
            <a:ext cx="1371600" cy="22860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503600" y="1700280"/>
            <a:ext cx="1279800" cy="22860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954600" y="2614680"/>
            <a:ext cx="109692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497400" y="3346560"/>
            <a:ext cx="19206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"/>
          <p:cNvGrpSpPr/>
          <p:nvPr/>
        </p:nvGrpSpPr>
        <p:grpSpPr>
          <a:xfrm>
            <a:off x="1535040" y="1897200"/>
            <a:ext cx="5371920" cy="2804760"/>
            <a:chOff x="1535040" y="1897200"/>
            <a:chExt cx="5371920" cy="2804760"/>
          </a:xfrm>
        </p:grpSpPr>
        <p:sp>
          <p:nvSpPr>
            <p:cNvPr id="275" name=""/>
            <p:cNvSpPr/>
            <p:nvPr/>
          </p:nvSpPr>
          <p:spPr>
            <a:xfrm>
              <a:off x="3821040" y="2665080"/>
              <a:ext cx="9144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rategi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ecision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883600" y="4589280"/>
              <a:ext cx="2651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2883600" y="2302560"/>
              <a:ext cx="1371600" cy="2286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255560" y="2302920"/>
              <a:ext cx="1280160" cy="2286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706560" y="3217320"/>
              <a:ext cx="1097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249360" y="3949200"/>
              <a:ext cx="1920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678040" y="2135160"/>
              <a:ext cx="0" cy="240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649840" y="1897200"/>
              <a:ext cx="1257120" cy="57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Areas of concer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649840" y="2487600"/>
              <a:ext cx="1257120" cy="57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Broad issues and strategi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649840" y="3192840"/>
              <a:ext cx="1257120" cy="57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Strategy implementation and polici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649840" y="4130640"/>
              <a:ext cx="1257120" cy="57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Operations and procedur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649160" y="1959840"/>
              <a:ext cx="9144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mphasis on plann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535040" y="4189320"/>
              <a:ext cx="9144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mphasis on contro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821040" y="4074840"/>
              <a:ext cx="9144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perational decision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821040" y="3369960"/>
              <a:ext cx="9144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actic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ecision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95280" y="5591160"/>
            <a:ext cx="74167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pter 6 Extra Figure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’s Managerial Triangle – a popular framework from the late 1960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7812000" y="5084640"/>
            <a:ext cx="101916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9T22:06:39Z</dcterms:created>
  <dc:creator>cumminst</dc:creator>
  <dc:description/>
  <dc:language>en-US</dc:language>
  <cp:lastModifiedBy>cumminst</cp:lastModifiedBy>
  <dcterms:modified xsi:type="dcterms:W3CDTF">2005-05-23T03:16:08Z</dcterms:modified>
  <cp:revision>17</cp:revision>
  <dc:subject/>
  <dc:title>Slide 1</dc:title>
</cp:coreProperties>
</file>